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7.wmf" ContentType="image/x-wmf"/>
  <Override PartName="/ppt/media/image6.jpeg" ContentType="image/jpe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2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D4D-EDFF-4655-AC4A-413352C7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E01-3E22-4BF6-A1BE-492E7D051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422C-9F47-40BB-8BF3-87C6A96B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A2F-21CF-4274-A13B-91B66FC7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2CA7-6DE3-4DEC-8D08-188DA2B8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ECAA-8A95-42CA-BD81-B4E51798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522-0D3A-48EF-94C7-4ADBF7DE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00B2-BFF2-4999-B93A-F966E36E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60E-4E2D-4455-88E6-C22F9B1D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913-D645-43B6-B562-44B2DE5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3C819-3074-4F2F-8613-E1666D7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EDDFF-B187-4E24-BD6F-3EED9DC5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CC62-9FA9-4BF6-8446-D4671212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78842-C1C7-452E-B0DD-F9EF454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71CE8-1ABD-4FFA-AD17-FD4F943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ADC6-D40E-4658-A3EA-C822E5C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3E93B-7C77-43B2-919F-51E79B71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6111C-6EEB-483B-AE43-5D47E539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A944-17D5-4A43-982A-5EEBF41D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9D58E-BA5C-46CE-B009-AF9448E3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3E7-EDBE-4BB3-9EB7-94EAAD70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659F9-DE32-417B-B856-03E3BE9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7A528-5C24-4FF7-ACD7-9464587C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DB9C7-71E0-4020-9BB1-66E0A83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CEF63-1D5E-47A4-B920-F791F51C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DC0A-D0CF-45C4-9F6C-72F36BE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15B10-8BF8-4955-B04C-F8C09C9A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419AF-1300-41B3-9E03-7718899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5D13B-F602-4F67-9D4E-FA3E4FA6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7A986-F5C6-4311-AE21-CF8C79BA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96507-00F3-4B95-AA5A-1DF8521A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8DC-FBA6-4E66-AC9D-9804916B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85521-328C-4523-93C0-F9C41FE8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FD140-FB0A-4630-8B80-733810AD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0221-3363-40AF-846D-F401E79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38F9-C79F-489D-B573-67952F22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11EE8-D903-4A3D-8F73-D809D4D1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3739F-E130-493D-8DB8-DFA034F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0AC3-28D2-47FF-BD15-D70C9A2D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DE75-098A-46CA-A321-4262EFB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E2458-3C6D-4DB7-A8C9-80CF5B7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6221D-89A2-4103-89F3-276191D3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4EF4-9A8C-4E26-904B-EAF28616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917E6-3A17-4874-B449-8ADDB43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6F4F5-0392-410E-83C4-24E959DB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4EACD-2E8D-447D-B719-3BAFF868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9F4DC-46C6-4EB7-B0A3-C6C29F4D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28B18-176D-4235-ABCF-30B8023D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528E6-0B19-44FA-A6FA-E15A5EA5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90179-857F-4B4B-B46C-A05C236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9D3C3-9E7C-45F1-828C-DDBFD1F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D8263-9474-4009-8FCE-EF74FFC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CBEEA-E35C-46D5-8011-CF31A8D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744-5367-43BA-8419-1B04DF8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19A5E-2392-4B82-AA03-B8AB48A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0CA05-CF59-4C9A-8655-9D7DC8C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A6AD6-496B-442A-A139-624E2D72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C659F-638C-4109-935C-934A4F9A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65988-761E-4E9D-B1A4-18716A77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232EA-B54E-4ED9-8BFF-DCD5EA40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3BB81-4816-4518-BEBD-E2882F4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31EBB-2276-4F22-ABAC-7A13FD5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9AAFE-7B0E-4CBF-BB2C-BE9E53B7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14F74-39D5-4D3D-94DB-742F90D1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65C2-D931-47DA-AF3E-C5A81DCF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3C8BA-C178-4656-9E53-233597E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B1403-84D7-42F7-8230-800D527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4F8BB-E69D-4192-9E12-32B3CD99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98F3F-6DA6-4E30-8B63-2F2D6DB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5C4B5-3C7F-409D-8E40-342E6D50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BA5F2-4239-4F36-B296-414EEC8A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7FBD2-7030-4E63-80F8-78E3A882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72EA3-4B10-466E-9A46-50B8ABFB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195B0-AC33-4A11-95BC-EF300D2D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6867D-3477-4333-ACF0-981E6706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AD39-C79A-4DBD-A54E-A4F8F2F7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29AB9-8C1F-4ABB-A7C4-499F6FF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4E773-8D98-422E-AD6A-03697CF5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785EB-F587-48E1-9525-D90670E1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DAB77-593F-4382-BE67-ED9C186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7D6A2-F768-4505-B555-9E7F5FDF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D1469-15EA-42B7-954F-46D8B69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8E407-FF63-4BFA-9C5D-0DCD8DF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258AD-A124-4F33-B56D-5F0F1B47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9858F-C097-45F2-ACFE-3D3949C8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6C14-F967-47FF-8D04-148929B2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218F-4F70-407B-8977-51532977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6249-C69B-413F-AC31-82D0E23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96D-24D8-4555-97C5-03A600D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A84-A6D4-483C-80C3-FB61ADB1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CE1-94E2-442C-956A-0AC0FC8B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506-639E-4D40-B251-B9206CC9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3E7F-DBE6-4368-86DE-D44599BC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64B-4CA9-4FD7-AE7C-9A109D76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2A37-AEC3-4988-814B-F6D902B1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512D-C087-4590-B235-56BFCF5A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674F-5EAC-49D4-B612-AF5C5B4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EE81-CE31-4ED0-9BBB-44AACAD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A593-711E-4F34-ADE1-13F9000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383-E207-4CDF-8C9D-6241067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3281-1A60-41E4-A994-A2539AE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8778-DE65-4474-A10D-06355DA6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0E96-6A8D-4BA6-96F3-6CB4650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6713-8A28-4071-870A-0CD438C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823E-3847-4229-AC0B-E8580604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376A-9AE9-4389-A725-71435AF5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A4F1-2DE7-4260-8EDE-0C40106D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82E1-776E-4263-9971-44B1FCCC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C37D-7D3E-4B8D-979E-0D481983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8F10-86C9-40BA-B440-097264E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466-DEF2-479D-949B-3253CEC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832A-8C97-4C56-A1A5-AEF9EB8C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56B8-ABC7-4CA0-B29E-C58B994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53A8-0EA9-42BE-82DA-55890A18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38D5-59AB-456E-87A7-87D925E9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1AAA-A27D-4AE0-9938-53A9352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51A2-B219-4A98-A29E-9C5E160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0AE3-554E-458C-8792-EA42B1EE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CF88-C670-4B22-8214-E90E5E77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174F-E674-4690-B6C0-5482A1A8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91A3-FC97-490A-AE2F-B1C2D3F5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958-A00E-4830-8B8C-AD321452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6AE2-6E83-42AC-8EFA-D142589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EA47-A8B5-4CE0-93A4-091853B5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8848-90B2-40FA-84C1-1889DC39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6DDD-73B9-40D5-9FFE-BE3F8CA6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C97CA-A526-4827-907A-E8BA960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E687-DB31-4DBE-BF66-8DB948E3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3FA4-0C45-4F33-BCEF-ED456B8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A73C-9C9F-4FC5-A4C0-5C7F2CB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31F7-6735-4D28-AF2A-699A66D0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E6AE-D939-418A-91DF-C6805B98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24A-A784-43E7-A337-30E5810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7844-A390-47E8-85A0-3D021D21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A902-B9B9-4D89-9958-60C8C886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99EEE-834C-4D39-AED5-22E8DBC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A664-BAE9-46EE-9093-0752E53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99B78-230F-4C2E-9961-FB6744C3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BAEA-F230-4CEB-8FB6-416A771C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74CB-583D-4515-A4E9-D2C6EA9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D7C74-A560-44A5-9F8F-4956074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A55E-83AE-49A3-AB0B-4506EE1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801FA-FDE7-4556-92ED-75446A6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05E-263D-48F0-859E-44033EA7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E51E-B935-4D03-996D-8BFFA339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6B081-AD66-4A8A-B6D0-8B51B376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5CF3-DBBF-47E7-9971-754A30C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2439-1462-440A-9D47-068C82AC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15E6-646F-4385-B06B-74EA29A3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AD41-7469-47BA-B6ED-723F4F9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C65C6-9EAB-4554-877D-6C349469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5D071-43EA-45D4-BB64-FA1A42E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8BE8-EECB-47DB-AE6B-C65CE0B0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BAEFD-4B38-4B0A-B431-245F786C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43C-9CC9-40AE-913F-8DDD7BB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1381-4B76-4601-AA4D-C2B8FF5F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40B8-A509-4951-9427-4759A56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336D2-28FF-44ED-A6AB-E5883920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5363-A688-4BB6-849E-82AD9981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BB1EC-BD05-4107-BD80-D5DBDF40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25C3C-B986-4BFC-BF1D-6DC2B9E0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39C7-C02A-41DF-8344-5E76ADBB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D568-779B-4453-B05C-8BFA9FC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A3E1-3766-40DA-9531-5B9C83F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94B85-D478-4F82-98D2-69E0832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FA8-A9DD-41FE-958D-E4ABC52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19557-2EF3-4783-85DF-CDF7BD2C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4FB3-231D-49CD-BEDE-ABDF17BA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79C1-089D-4A31-8042-D69F93A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E5625-41D9-49BA-96AE-4A5B894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2453-8980-4BE9-B670-1812B9A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7FBA2-EF90-4455-AF8F-66F7F7E8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7443C-AABE-4EED-9F0F-7DA4928C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6A377-7FF8-4B1F-8CA3-A4D1B9C4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C24C-14A6-4E61-9100-9B93F4FF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D901-66D0-455D-B4A6-1E44C5CF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9478-D64B-4774-9C49-7334984A8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76D-CA4A-4543-A8EB-30DFDE1C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758-441D-4101-AFF0-A8AE5FD8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49D7-D812-4E56-BF12-03D4DC725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3D47-D956-4BBD-A2D0-D2EBD2C08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0689-D0B2-4EF1-BF27-B97474F0B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B28-01DF-4C73-BA89-665391E2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D21E-ED25-4A3A-B083-7A72196B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69C-3FBC-4E2E-B1D6-D283D1840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469-1606-4462-B4A5-660D8E780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2F8D-74FE-4CAB-8EFD-CED06427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803-F720-4B9D-A94D-6E7F7A70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07A-FB80-434B-8E69-EC5A5C82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4FC-309B-4D51-BB1F-8CD955A1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RIC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ril 7,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9"/>
          <p:cNvSpPr/>
          <p:nvPr/>
        </p:nvSpPr>
        <p:spPr>
          <a:xfrm>
            <a:off x="1143000" y="2286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1066680" y="28954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1066680" y="35053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2057400" y="35812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2057400" y="3809880"/>
            <a:ext cx="357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2057400" y="4038480"/>
            <a:ext cx="365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PRACT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3581280" y="533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4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T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0" y="9144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8080"/>
                </a:solidFill>
                <a:latin typeface="Times New Roman"/>
              </a:rPr>
              <a:t>Students of the Yea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914400" y="1066320"/>
            <a:ext cx="9524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tudents of the Year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Lee Ann Womack - I Hope You Danc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1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000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C:\Users\staycle\Desktop\telophase.gif"/>
          <p:cNvPicPr/>
          <p:nvPr/>
        </p:nvPicPr>
        <p:blipFill>
          <a:blip r:embed="rId5"/>
          <a:stretch/>
        </p:blipFill>
        <p:spPr>
          <a:xfrm rot="1833600">
            <a:off x="944280" y="3997080"/>
            <a:ext cx="35924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C:\Users\staycle\Desktop\telophase.gif"/>
          <p:cNvPicPr/>
          <p:nvPr/>
        </p:nvPicPr>
        <p:blipFill>
          <a:blip r:embed="rId5"/>
          <a:stretch/>
        </p:blipFill>
        <p:spPr>
          <a:xfrm rot="1833600">
            <a:off x="944280" y="3997080"/>
            <a:ext cx="3592440" cy="2297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C:\Users\staycle\Desktop\cytokinesis.jpg"/>
          <p:cNvPicPr/>
          <p:nvPr/>
        </p:nvPicPr>
        <p:blipFill>
          <a:blip r:embed="rId6"/>
          <a:stretch/>
        </p:blipFill>
        <p:spPr>
          <a:xfrm rot="20595000">
            <a:off x="-223560" y="487440"/>
            <a:ext cx="3849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C:\Users\staycle\Desktop\interphase.jpg"/>
          <p:cNvPicPr/>
          <p:nvPr/>
        </p:nvPicPr>
        <p:blipFill>
          <a:blip r:embed="rId1"/>
          <a:stretch/>
        </p:blipFill>
        <p:spPr>
          <a:xfrm>
            <a:off x="3962520" y="304920"/>
            <a:ext cx="1965240" cy="1752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C:\Users\staycle\Desktop\prophase.jpg"/>
          <p:cNvPicPr/>
          <p:nvPr/>
        </p:nvPicPr>
        <p:blipFill>
          <a:blip r:embed="rId2"/>
          <a:stretch/>
        </p:blipFill>
        <p:spPr>
          <a:xfrm>
            <a:off x="6095880" y="990720"/>
            <a:ext cx="1963800" cy="16002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C:\Users\staycle\Desktop\metaphase.jpg"/>
          <p:cNvPicPr/>
          <p:nvPr/>
        </p:nvPicPr>
        <p:blipFill>
          <a:blip r:embed="rId3"/>
          <a:stretch/>
        </p:blipFill>
        <p:spPr>
          <a:xfrm>
            <a:off x="6585120" y="2666880"/>
            <a:ext cx="2558880" cy="2210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C:\Users\staycle\Desktop\anaphase.jpg"/>
          <p:cNvPicPr/>
          <p:nvPr/>
        </p:nvPicPr>
        <p:blipFill>
          <a:blip r:embed="rId4"/>
          <a:stretch/>
        </p:blipFill>
        <p:spPr>
          <a:xfrm>
            <a:off x="4724280" y="4800600"/>
            <a:ext cx="2133720" cy="1841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C:\Users\staycle\Desktop\telophase.gif"/>
          <p:cNvPicPr/>
          <p:nvPr/>
        </p:nvPicPr>
        <p:blipFill>
          <a:blip r:embed="rId5"/>
          <a:stretch/>
        </p:blipFill>
        <p:spPr>
          <a:xfrm rot="1833600">
            <a:off x="944280" y="3997080"/>
            <a:ext cx="3592440" cy="2297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C:\Users\staycle\Desktop\cytokinesis.jpg"/>
          <p:cNvPicPr/>
          <p:nvPr/>
        </p:nvPicPr>
        <p:blipFill>
          <a:blip r:embed="rId6"/>
          <a:stretch/>
        </p:blipFill>
        <p:spPr>
          <a:xfrm rot="20595000">
            <a:off x="-223560" y="487440"/>
            <a:ext cx="3849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AGE IN A SH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5-Point Star 3"/>
          <p:cNvSpPr/>
          <p:nvPr/>
        </p:nvSpPr>
        <p:spPr>
          <a:xfrm>
            <a:off x="0" y="1447920"/>
            <a:ext cx="2743200" cy="2971800"/>
          </a:xfrm>
          <a:custGeom>
            <a:avLst/>
            <a:gdLst>
              <a:gd name="textAreaLeft" fmla="*/ 847800 w 2743200"/>
              <a:gd name="textAreaRight" fmla="*/ 1895400 w 2743200"/>
              <a:gd name="textAreaTop" fmla="*/ 1135080 h 2971800"/>
              <a:gd name="textAreaBottom" fmla="*/ 2270160 h 2971800"/>
            </a:gdLst>
            <a:ahLst/>
            <a:rect l="textAreaLeft" t="textAreaTop" r="textAreaRight" b="textAreaBottom"/>
            <a:pathLst>
              <a:path w="2743200" h="2971800">
                <a:moveTo>
                  <a:pt x="3" y="1135123"/>
                </a:moveTo>
                <a:lnTo>
                  <a:pt x="1047815" y="1135132"/>
                </a:lnTo>
                <a:lnTo>
                  <a:pt x="1371600" y="0"/>
                </a:lnTo>
                <a:lnTo>
                  <a:pt x="1695385" y="1135132"/>
                </a:lnTo>
                <a:lnTo>
                  <a:pt x="2743197" y="1135123"/>
                </a:lnTo>
                <a:lnTo>
                  <a:pt x="1895496" y="1836664"/>
                </a:lnTo>
                <a:lnTo>
                  <a:pt x="2219296" y="2971790"/>
                </a:lnTo>
                <a:lnTo>
                  <a:pt x="1371600" y="2270238"/>
                </a:lnTo>
                <a:lnTo>
                  <a:pt x="523904" y="2971790"/>
                </a:lnTo>
                <a:lnTo>
                  <a:pt x="847704" y="183666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Smiley Face 4"/>
          <p:cNvGrpSpPr/>
          <p:nvPr/>
        </p:nvGrpSpPr>
        <p:grpSpPr>
          <a:xfrm>
            <a:off x="3486240" y="1657440"/>
            <a:ext cx="2401920" cy="2401920"/>
            <a:chOff x="3486240" y="1657440"/>
            <a:chExt cx="2401920" cy="2401920"/>
          </a:xfrm>
        </p:grpSpPr>
        <p:pic>
          <p:nvPicPr>
            <p:cNvPr id="589" name="Smiley Face 4" descr=""/>
            <p:cNvPicPr/>
            <p:nvPr/>
          </p:nvPicPr>
          <p:blipFill>
            <a:blip r:embed="rId2"/>
            <a:stretch/>
          </p:blipFill>
          <p:spPr>
            <a:xfrm>
              <a:off x="3486240" y="1657440"/>
              <a:ext cx="24019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3851280" y="202248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Heart 5"/>
          <p:cNvSpPr/>
          <p:nvPr/>
        </p:nvSpPr>
        <p:spPr>
          <a:xfrm>
            <a:off x="6400800" y="2057400"/>
            <a:ext cx="2514600" cy="2895480"/>
          </a:xfrm>
          <a:custGeom>
            <a:avLst/>
            <a:gdLst>
              <a:gd name="textAreaLeft" fmla="*/ 419040 w 2514600"/>
              <a:gd name="textAreaRight" fmla="*/ 2095560 w 2514600"/>
              <a:gd name="textAreaTop" fmla="*/ 723960 h 2895480"/>
              <a:gd name="textAreaBottom" fmla="*/ 1930320 h 2895480"/>
            </a:gdLst>
            <a:ahLst/>
            <a:rect l="textAreaLeft" t="textAreaTop" r="textAreaRight" b="textAreaBottom"/>
            <a:pathLst>
              <a:path w="2514600" h="2895600">
                <a:moveTo>
                  <a:pt x="1257300" y="723900"/>
                </a:moveTo>
                <a:cubicBezTo>
                  <a:pt x="1781175" y="-965200"/>
                  <a:pt x="3824287" y="723900"/>
                  <a:pt x="1257300" y="2895600"/>
                </a:cubicBezTo>
                <a:cubicBezTo>
                  <a:pt x="-1309687" y="723900"/>
                  <a:pt x="733425" y="-965200"/>
                  <a:pt x="1257300" y="7239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un 8"/>
          <p:cNvSpPr/>
          <p:nvPr/>
        </p:nvSpPr>
        <p:spPr>
          <a:xfrm>
            <a:off x="1676520" y="4114800"/>
            <a:ext cx="2666880" cy="2514600"/>
          </a:xfrm>
          <a:prstGeom prst="sun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Cloud 9"/>
          <p:cNvSpPr/>
          <p:nvPr/>
        </p:nvSpPr>
        <p:spPr>
          <a:xfrm>
            <a:off x="4572000" y="4495680"/>
            <a:ext cx="2895480" cy="2133720"/>
          </a:xfrm>
          <a:custGeom>
            <a:avLst/>
            <a:gdLst>
              <a:gd name="textAreaLeft" fmla="*/ 398880 w 2895480"/>
              <a:gd name="textAreaRight" fmla="*/ 2290680 w 2895480"/>
              <a:gd name="textAreaTop" fmla="*/ 322200 h 2133720"/>
              <a:gd name="textAreaBottom" fmla="*/ 1712880 h 2133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 rot="21054000">
            <a:off x="1644480" y="34416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traight Connector 9"/>
          <p:cNvSpPr/>
          <p:nvPr/>
        </p:nvSpPr>
        <p:spPr>
          <a:xfrm flipH="1">
            <a:off x="4583520" y="172980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traight Connector 9"/>
          <p:cNvSpPr/>
          <p:nvPr/>
        </p:nvSpPr>
        <p:spPr>
          <a:xfrm flipH="1">
            <a:off x="4583520" y="172980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traight Connector 11"/>
          <p:cNvSpPr/>
          <p:nvPr/>
        </p:nvSpPr>
        <p:spPr>
          <a:xfrm flipH="1">
            <a:off x="1846440" y="4956480"/>
            <a:ext cx="1875240" cy="13028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4"/>
          <p:cNvSpPr/>
          <p:nvPr/>
        </p:nvSpPr>
        <p:spPr>
          <a:xfrm rot="21054000">
            <a:off x="3483000" y="197172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 rot="21054000">
            <a:off x="1546200" y="3362400"/>
            <a:ext cx="3276720" cy="2743200"/>
          </a:xfrm>
          <a:prstGeom prst="rect">
            <a:avLst/>
          </a:prstGeom>
          <a:solidFill>
            <a:srgbClr val="00cc99">
              <a:alpha val="12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traight Connector 7"/>
          <p:cNvSpPr/>
          <p:nvPr/>
        </p:nvSpPr>
        <p:spPr>
          <a:xfrm flipH="1">
            <a:off x="1348200" y="224712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9"/>
          <p:cNvSpPr/>
          <p:nvPr/>
        </p:nvSpPr>
        <p:spPr>
          <a:xfrm flipH="1">
            <a:off x="4583520" y="172980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11"/>
          <p:cNvSpPr/>
          <p:nvPr/>
        </p:nvSpPr>
        <p:spPr>
          <a:xfrm flipH="1">
            <a:off x="1846440" y="4956480"/>
            <a:ext cx="1875240" cy="13028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3"/>
          <p:cNvSpPr/>
          <p:nvPr/>
        </p:nvSpPr>
        <p:spPr>
          <a:xfrm flipH="1">
            <a:off x="5018400" y="4438080"/>
            <a:ext cx="1938600" cy="1390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AutoShape 6"/>
          <p:cNvCxnSpPr>
            <a:stCxn id="690" idx="0"/>
            <a:endCxn id="690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92" name="Freeform 7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2422440" y="3505320"/>
            <a:ext cx="8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12"/>
          <p:cNvSpPr/>
          <p:nvPr/>
        </p:nvSpPr>
        <p:spPr>
          <a:xfrm>
            <a:off x="3200400" y="350532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6019920" y="685800"/>
            <a:ext cx="31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3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gree 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AutoShape 4"/>
          <p:cNvCxnSpPr>
            <a:stCxn id="698" idx="0"/>
            <a:endCxn id="698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0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2422440" y="3505320"/>
            <a:ext cx="8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8"/>
          <p:cNvSpPr/>
          <p:nvPr/>
        </p:nvSpPr>
        <p:spPr>
          <a:xfrm>
            <a:off x="3200400" y="350532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9"/>
          <p:cNvSpPr/>
          <p:nvPr/>
        </p:nvSpPr>
        <p:spPr>
          <a:xfrm rot="19995000">
            <a:off x="2452680" y="229032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AutoShape 4"/>
          <p:cNvCxnSpPr>
            <a:stCxn id="706" idx="0"/>
            <a:endCxn id="706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8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2422440" y="3505320"/>
            <a:ext cx="8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8"/>
          <p:cNvSpPr/>
          <p:nvPr/>
        </p:nvSpPr>
        <p:spPr>
          <a:xfrm>
            <a:off x="3200400" y="350532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"/>
          <p:cNvSpPr/>
          <p:nvPr/>
        </p:nvSpPr>
        <p:spPr>
          <a:xfrm>
            <a:off x="3124080" y="2666880"/>
            <a:ext cx="0" cy="2362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2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3"/>
          <p:cNvSpPr/>
          <p:nvPr/>
        </p:nvSpPr>
        <p:spPr>
          <a:xfrm flipH="1">
            <a:off x="1676160" y="2666880"/>
            <a:ext cx="1447560" cy="83664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815800" y="890640"/>
            <a:ext cx="30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40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ight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ced o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AutoShape 4"/>
          <p:cNvCxnSpPr>
            <a:stCxn id="718" idx="0"/>
            <a:endCxn id="718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0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1981080" y="3581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8"/>
          <p:cNvSpPr/>
          <p:nvPr/>
        </p:nvSpPr>
        <p:spPr>
          <a:xfrm>
            <a:off x="2590920" y="3581280"/>
            <a:ext cx="7596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3124080" y="2666880"/>
            <a:ext cx="0" cy="2362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1828800" y="2666880"/>
            <a:ext cx="1295280" cy="60984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>
            <a:off x="3124080" y="2666880"/>
            <a:ext cx="924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563560" y="576360"/>
            <a:ext cx="66384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7"/>
          <p:cNvSpPr/>
          <p:nvPr/>
        </p:nvSpPr>
        <p:spPr>
          <a:xfrm>
            <a:off x="9907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8"/>
          <p:cNvSpPr/>
          <p:nvPr/>
        </p:nvSpPr>
        <p:spPr>
          <a:xfrm>
            <a:off x="12193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2197080" y="5386320"/>
            <a:ext cx="777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2"/>
          <p:cNvSpPr/>
          <p:nvPr/>
        </p:nvSpPr>
        <p:spPr>
          <a:xfrm>
            <a:off x="5334120" y="40384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23"/>
          <p:cNvSpPr/>
          <p:nvPr/>
        </p:nvSpPr>
        <p:spPr>
          <a:xfrm>
            <a:off x="5791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24"/>
          <p:cNvSpPr/>
          <p:nvPr/>
        </p:nvSpPr>
        <p:spPr>
          <a:xfrm>
            <a:off x="54864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PY AN IM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Key an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C:\Program Files\Microsoft Office\MEDIA\CAGCAT10\j0183328.wmf"/>
          <p:cNvPicPr/>
          <p:nvPr/>
        </p:nvPicPr>
        <p:blipFill>
          <a:blip r:embed="rId1"/>
          <a:stretch/>
        </p:blipFill>
        <p:spPr>
          <a:xfrm>
            <a:off x="1143000" y="31240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C:\Program Files\Microsoft Office\MEDIA\CAGCAT10\j0183328.wmf"/>
          <p:cNvPicPr/>
          <p:nvPr/>
        </p:nvPicPr>
        <p:blipFill>
          <a:blip r:embed="rId2"/>
          <a:stretch/>
        </p:blipFill>
        <p:spPr>
          <a:xfrm>
            <a:off x="1295280" y="327672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C:\Program Files\Microsoft Office\MEDIA\CAGCAT10\j0183328.wmf"/>
          <p:cNvPicPr/>
          <p:nvPr/>
        </p:nvPicPr>
        <p:blipFill>
          <a:blip r:embed="rId3"/>
          <a:stretch/>
        </p:blipFill>
        <p:spPr>
          <a:xfrm>
            <a:off x="1447920" y="34290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C:\Program Files\Microsoft Office\MEDIA\CAGCAT10\j0183328.wmf"/>
          <p:cNvPicPr/>
          <p:nvPr/>
        </p:nvPicPr>
        <p:blipFill>
          <a:blip r:embed="rId4"/>
          <a:stretch/>
        </p:blipFill>
        <p:spPr>
          <a:xfrm>
            <a:off x="1600200" y="35812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C:\Program Files\Microsoft Office\MEDIA\CAGCAT10\j0183328.wmf"/>
          <p:cNvPicPr/>
          <p:nvPr/>
        </p:nvPicPr>
        <p:blipFill>
          <a:blip r:embed="rId5"/>
          <a:stretch/>
        </p:blipFill>
        <p:spPr>
          <a:xfrm>
            <a:off x="1752480" y="373392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Program Files\Microsoft Office\MEDIA\CAGCAT10\j0183328.wmf"/>
          <p:cNvPicPr/>
          <p:nvPr/>
        </p:nvPicPr>
        <p:blipFill>
          <a:blip r:embed="rId6"/>
          <a:stretch/>
        </p:blipFill>
        <p:spPr>
          <a:xfrm>
            <a:off x="1905120" y="38862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C:\Program Files\Microsoft Office\MEDIA\CAGCAT10\j0183328.wmf"/>
          <p:cNvPicPr/>
          <p:nvPr/>
        </p:nvPicPr>
        <p:blipFill>
          <a:blip r:embed="rId7"/>
          <a:stretch/>
        </p:blipFill>
        <p:spPr>
          <a:xfrm>
            <a:off x="2057400" y="40384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C:\Program Files\Microsoft Office\MEDIA\CAGCAT10\j0183328.wmf"/>
          <p:cNvPicPr/>
          <p:nvPr/>
        </p:nvPicPr>
        <p:blipFill>
          <a:blip r:embed="rId8"/>
          <a:stretch/>
        </p:blipFill>
        <p:spPr>
          <a:xfrm>
            <a:off x="2209680" y="4191120"/>
            <a:ext cx="1806840" cy="18144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Program Files\Microsoft Office\MEDIA\CAGCAT10\j0183328.wmf"/>
          <p:cNvPicPr/>
          <p:nvPr/>
        </p:nvPicPr>
        <p:blipFill>
          <a:blip r:embed="rId9"/>
          <a:stretch/>
        </p:blipFill>
        <p:spPr>
          <a:xfrm>
            <a:off x="2362320" y="43434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C:\Program Files\Microsoft Office\MEDIA\CAGCAT10\j0183328.wmf"/>
          <p:cNvPicPr/>
          <p:nvPr/>
        </p:nvPicPr>
        <p:blipFill>
          <a:blip r:embed="rId10"/>
          <a:stretch/>
        </p:blipFill>
        <p:spPr>
          <a:xfrm>
            <a:off x="2514600" y="449568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Program Files\Microsoft Office\MEDIA\CAGCAT10\j0183328.wmf"/>
          <p:cNvPicPr/>
          <p:nvPr/>
        </p:nvPicPr>
        <p:blipFill>
          <a:blip r:embed="rId11"/>
          <a:stretch/>
        </p:blipFill>
        <p:spPr>
          <a:xfrm>
            <a:off x="2666880" y="46483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AutoShape 4"/>
          <p:cNvCxnSpPr>
            <a:stCxn id="738" idx="0"/>
            <a:endCxn id="738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Freeform 5"/>
          <p:cNvSpPr/>
          <p:nvPr/>
        </p:nvSpPr>
        <p:spPr>
          <a:xfrm>
            <a:off x="1905120" y="38098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cubicBezTo>
                  <a:pt x="72" y="12"/>
                  <a:pt x="144" y="24"/>
                  <a:pt x="144" y="48"/>
                </a:cubicBezTo>
                <a:cubicBezTo>
                  <a:pt x="144" y="72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981080" y="3581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2590920" y="3581280"/>
            <a:ext cx="7596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3124080" y="2666880"/>
            <a:ext cx="0" cy="21337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1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"/>
          <p:cNvSpPr/>
          <p:nvPr/>
        </p:nvSpPr>
        <p:spPr>
          <a:xfrm flipH="1">
            <a:off x="1905120" y="2666880"/>
            <a:ext cx="1218960" cy="68580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3"/>
          <p:cNvSpPr/>
          <p:nvPr/>
        </p:nvSpPr>
        <p:spPr>
          <a:xfrm>
            <a:off x="3124080" y="2666880"/>
            <a:ext cx="9907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2563560" y="576360"/>
            <a:ext cx="66384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6"/>
          <p:cNvSpPr/>
          <p:nvPr/>
        </p:nvSpPr>
        <p:spPr>
          <a:xfrm>
            <a:off x="9907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12193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8"/>
          <p:cNvSpPr/>
          <p:nvPr/>
        </p:nvSpPr>
        <p:spPr>
          <a:xfrm>
            <a:off x="2197080" y="5386320"/>
            <a:ext cx="777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9"/>
          <p:cNvSpPr/>
          <p:nvPr/>
        </p:nvSpPr>
        <p:spPr>
          <a:xfrm>
            <a:off x="5334120" y="40384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20"/>
          <p:cNvSpPr/>
          <p:nvPr/>
        </p:nvSpPr>
        <p:spPr>
          <a:xfrm>
            <a:off x="5791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1"/>
          <p:cNvSpPr/>
          <p:nvPr/>
        </p:nvSpPr>
        <p:spPr>
          <a:xfrm>
            <a:off x="54864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3124080" y="4191120"/>
            <a:ext cx="990720" cy="5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3"/>
          <p:cNvSpPr/>
          <p:nvPr/>
        </p:nvSpPr>
        <p:spPr>
          <a:xfrm flipH="1">
            <a:off x="3733560" y="4038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4"/>
          <p:cNvSpPr/>
          <p:nvPr/>
        </p:nvSpPr>
        <p:spPr>
          <a:xfrm>
            <a:off x="3733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5"/>
          <p:cNvSpPr/>
          <p:nvPr/>
        </p:nvSpPr>
        <p:spPr>
          <a:xfrm>
            <a:off x="29718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3"/>
          <p:cNvSpPr/>
          <p:nvPr/>
        </p:nvSpPr>
        <p:spPr>
          <a:xfrm rot="16200000">
            <a:off x="2400120" y="95184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AutoShape 4"/>
          <p:cNvCxnSpPr>
            <a:stCxn id="762" idx="0"/>
            <a:endCxn id="762" idx="0"/>
          </p:cNvCxnSpPr>
          <p:nvPr/>
        </p:nvCxnSpPr>
        <p:spPr>
          <a:xfrm flipH="1" flipV="1" rot="10800000">
            <a:off x="1371240" y="40374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4" name="Text Box 6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16002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9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124080" y="2666880"/>
            <a:ext cx="0" cy="21337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1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12"/>
          <p:cNvSpPr/>
          <p:nvPr/>
        </p:nvSpPr>
        <p:spPr>
          <a:xfrm flipH="1">
            <a:off x="1980720" y="2666880"/>
            <a:ext cx="1143000" cy="68580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3"/>
          <p:cNvSpPr/>
          <p:nvPr/>
        </p:nvSpPr>
        <p:spPr>
          <a:xfrm>
            <a:off x="3124080" y="2666880"/>
            <a:ext cx="9907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2563560" y="576360"/>
            <a:ext cx="66384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6"/>
          <p:cNvSpPr/>
          <p:nvPr/>
        </p:nvSpPr>
        <p:spPr>
          <a:xfrm>
            <a:off x="9907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17"/>
          <p:cNvSpPr/>
          <p:nvPr/>
        </p:nvSpPr>
        <p:spPr>
          <a:xfrm>
            <a:off x="12193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2197080" y="5386320"/>
            <a:ext cx="777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5334120" y="40384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20"/>
          <p:cNvSpPr/>
          <p:nvPr/>
        </p:nvSpPr>
        <p:spPr>
          <a:xfrm>
            <a:off x="5791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1"/>
          <p:cNvSpPr/>
          <p:nvPr/>
        </p:nvSpPr>
        <p:spPr>
          <a:xfrm>
            <a:off x="54864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2"/>
          <p:cNvSpPr/>
          <p:nvPr/>
        </p:nvSpPr>
        <p:spPr>
          <a:xfrm flipV="1">
            <a:off x="3124080" y="4191120"/>
            <a:ext cx="990720" cy="5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23"/>
          <p:cNvSpPr/>
          <p:nvPr/>
        </p:nvSpPr>
        <p:spPr>
          <a:xfrm flipH="1">
            <a:off x="3733560" y="4038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24"/>
          <p:cNvSpPr/>
          <p:nvPr/>
        </p:nvSpPr>
        <p:spPr>
          <a:xfrm>
            <a:off x="3733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5"/>
          <p:cNvSpPr/>
          <p:nvPr/>
        </p:nvSpPr>
        <p:spPr>
          <a:xfrm>
            <a:off x="29718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26"/>
          <p:cNvSpPr/>
          <p:nvPr/>
        </p:nvSpPr>
        <p:spPr>
          <a:xfrm>
            <a:off x="2057400" y="32767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27"/>
          <p:cNvSpPr/>
          <p:nvPr/>
        </p:nvSpPr>
        <p:spPr>
          <a:xfrm>
            <a:off x="2703600" y="399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5715000" cy="5029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3"/>
          <p:cNvSpPr/>
          <p:nvPr/>
        </p:nvSpPr>
        <p:spPr>
          <a:xfrm rot="16200000">
            <a:off x="2171520" y="875880"/>
            <a:ext cx="2057400" cy="411480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AutoShape 4"/>
          <p:cNvCxnSpPr>
            <a:stCxn id="786" idx="0"/>
            <a:endCxn id="786" idx="0"/>
          </p:cNvCxnSpPr>
          <p:nvPr/>
        </p:nvCxnSpPr>
        <p:spPr>
          <a:xfrm flipH="1" flipV="1" rot="10800000">
            <a:off x="1142640" y="396216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8" name="Text Box 5"/>
          <p:cNvSpPr/>
          <p:nvPr/>
        </p:nvSpPr>
        <p:spPr>
          <a:xfrm>
            <a:off x="2422440" y="354168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16002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"/>
          <p:cNvSpPr/>
          <p:nvPr/>
        </p:nvSpPr>
        <p:spPr>
          <a:xfrm rot="19995000">
            <a:off x="2452680" y="2285640"/>
            <a:ext cx="1506600" cy="8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8"/>
          <p:cNvSpPr/>
          <p:nvPr/>
        </p:nvSpPr>
        <p:spPr>
          <a:xfrm>
            <a:off x="3124080" y="2666880"/>
            <a:ext cx="0" cy="21337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9"/>
          <p:cNvSpPr/>
          <p:nvPr/>
        </p:nvSpPr>
        <p:spPr>
          <a:xfrm flipH="1" flipV="1">
            <a:off x="2465280" y="1523520"/>
            <a:ext cx="658800" cy="11430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0"/>
          <p:cNvSpPr/>
          <p:nvPr/>
        </p:nvSpPr>
        <p:spPr>
          <a:xfrm flipH="1">
            <a:off x="1980720" y="2666880"/>
            <a:ext cx="1143000" cy="68580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1"/>
          <p:cNvSpPr/>
          <p:nvPr/>
        </p:nvSpPr>
        <p:spPr>
          <a:xfrm>
            <a:off x="3124080" y="2666880"/>
            <a:ext cx="9907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2498760" y="990720"/>
            <a:ext cx="793800" cy="64260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685800" y="2590920"/>
            <a:ext cx="838080" cy="70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2057400" y="4800600"/>
            <a:ext cx="9208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4191120" y="41148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8"/>
          <p:cNvSpPr/>
          <p:nvPr/>
        </p:nvSpPr>
        <p:spPr>
          <a:xfrm>
            <a:off x="47242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9"/>
          <p:cNvSpPr/>
          <p:nvPr/>
        </p:nvSpPr>
        <p:spPr>
          <a:xfrm>
            <a:off x="44956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20"/>
          <p:cNvSpPr/>
          <p:nvPr/>
        </p:nvSpPr>
        <p:spPr>
          <a:xfrm flipV="1">
            <a:off x="3124080" y="4191120"/>
            <a:ext cx="990720" cy="5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1"/>
          <p:cNvSpPr/>
          <p:nvPr/>
        </p:nvSpPr>
        <p:spPr>
          <a:xfrm flipH="1">
            <a:off x="3733560" y="4038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2"/>
          <p:cNvSpPr/>
          <p:nvPr/>
        </p:nvSpPr>
        <p:spPr>
          <a:xfrm>
            <a:off x="3733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297180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4"/>
          <p:cNvSpPr/>
          <p:nvPr/>
        </p:nvSpPr>
        <p:spPr>
          <a:xfrm>
            <a:off x="2057400" y="32767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2703600" y="399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6"/>
          <p:cNvSpPr/>
          <p:nvPr/>
        </p:nvSpPr>
        <p:spPr>
          <a:xfrm>
            <a:off x="6156360" y="493560"/>
            <a:ext cx="260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30=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-34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37"/>
          <p:cNvSpPr/>
          <p:nvPr/>
        </p:nvSpPr>
        <p:spPr>
          <a:xfrm flipH="1" flipV="1">
            <a:off x="6629400" y="609120"/>
            <a:ext cx="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38"/>
          <p:cNvSpPr/>
          <p:nvPr/>
        </p:nvSpPr>
        <p:spPr>
          <a:xfrm>
            <a:off x="64008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39"/>
          <p:cNvSpPr/>
          <p:nvPr/>
        </p:nvSpPr>
        <p:spPr>
          <a:xfrm>
            <a:off x="822960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40"/>
          <p:cNvSpPr/>
          <p:nvPr/>
        </p:nvSpPr>
        <p:spPr>
          <a:xfrm>
            <a:off x="79246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41"/>
          <p:cNvSpPr/>
          <p:nvPr/>
        </p:nvSpPr>
        <p:spPr>
          <a:xfrm>
            <a:off x="7772400" y="1523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42"/>
          <p:cNvSpPr/>
          <p:nvPr/>
        </p:nvSpPr>
        <p:spPr>
          <a:xfrm>
            <a:off x="81532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3"/>
          <p:cNvSpPr/>
          <p:nvPr/>
        </p:nvSpPr>
        <p:spPr>
          <a:xfrm>
            <a:off x="6080040" y="3084480"/>
            <a:ext cx="26067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30=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2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46"/>
          <p:cNvSpPr/>
          <p:nvPr/>
        </p:nvSpPr>
        <p:spPr>
          <a:xfrm>
            <a:off x="80773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47"/>
          <p:cNvSpPr/>
          <p:nvPr/>
        </p:nvSpPr>
        <p:spPr>
          <a:xfrm>
            <a:off x="8229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48"/>
          <p:cNvSpPr/>
          <p:nvPr/>
        </p:nvSpPr>
        <p:spPr>
          <a:xfrm>
            <a:off x="76960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2895480" y="762120"/>
            <a:ext cx="37339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traight Connector 5"/>
          <p:cNvSpPr/>
          <p:nvPr/>
        </p:nvSpPr>
        <p:spPr>
          <a:xfrm flipH="1">
            <a:off x="304776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3"/>
          <p:cNvSpPr/>
          <p:nvPr/>
        </p:nvSpPr>
        <p:spPr>
          <a:xfrm>
            <a:off x="2895480" y="380880"/>
            <a:ext cx="373392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traight Connector 5"/>
          <p:cNvSpPr/>
          <p:nvPr/>
        </p:nvSpPr>
        <p:spPr>
          <a:xfrm flipH="1">
            <a:off x="30477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3"/>
          <p:cNvSpPr/>
          <p:nvPr/>
        </p:nvSpPr>
        <p:spPr>
          <a:xfrm>
            <a:off x="2895480" y="380880"/>
            <a:ext cx="373392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traight Connector 5"/>
          <p:cNvSpPr/>
          <p:nvPr/>
        </p:nvSpPr>
        <p:spPr>
          <a:xfrm flipH="1">
            <a:off x="30477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ouping/Ungrou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Group 4"/>
          <p:cNvGrpSpPr/>
          <p:nvPr/>
        </p:nvGrpSpPr>
        <p:grpSpPr>
          <a:xfrm>
            <a:off x="2666880" y="2590920"/>
            <a:ext cx="2971800" cy="2590560"/>
            <a:chOff x="2666880" y="2590920"/>
            <a:chExt cx="2971800" cy="2590560"/>
          </a:xfrm>
        </p:grpSpPr>
        <p:sp>
          <p:nvSpPr>
            <p:cNvPr id="826" name="5-Point Star 2"/>
            <p:cNvSpPr/>
            <p:nvPr/>
          </p:nvSpPr>
          <p:spPr>
            <a:xfrm>
              <a:off x="2666880" y="2590920"/>
              <a:ext cx="2971800" cy="2590560"/>
            </a:xfrm>
            <a:custGeom>
              <a:avLst/>
              <a:gdLst>
                <a:gd name="textAreaLeft" fmla="*/ 918360 w 2971800"/>
                <a:gd name="textAreaRight" fmla="*/ 2053440 w 2971800"/>
                <a:gd name="textAreaTop" fmla="*/ 989640 h 2590560"/>
                <a:gd name="textAreaBottom" fmla="*/ 1978920 h 2590560"/>
              </a:gdLst>
              <a:ahLst/>
              <a:rect l="textAreaLeft" t="textAreaTop" r="textAreaRight" b="textAreaBottom"/>
              <a:pathLst>
                <a:path w="2971800" h="2590800">
                  <a:moveTo>
                    <a:pt x="3" y="989595"/>
                  </a:moveTo>
                  <a:lnTo>
                    <a:pt x="1135133" y="989602"/>
                  </a:lnTo>
                  <a:lnTo>
                    <a:pt x="1485900" y="0"/>
                  </a:lnTo>
                  <a:lnTo>
                    <a:pt x="1836667" y="989602"/>
                  </a:lnTo>
                  <a:lnTo>
                    <a:pt x="2971797" y="989595"/>
                  </a:lnTo>
                  <a:lnTo>
                    <a:pt x="2053454" y="1601194"/>
                  </a:lnTo>
                  <a:lnTo>
                    <a:pt x="2404238" y="2590791"/>
                  </a:lnTo>
                  <a:lnTo>
                    <a:pt x="1485900" y="1979181"/>
                  </a:lnTo>
                  <a:lnTo>
                    <a:pt x="567562" y="2590791"/>
                  </a:lnTo>
                  <a:lnTo>
                    <a:pt x="918346" y="1601194"/>
                  </a:lnTo>
                  <a:close/>
                </a:path>
              </a:pathLst>
            </a:custGeom>
            <a:solidFill>
              <a:srgbClr val="00cc99"/>
            </a:solidFill>
            <a:ln w="25560">
              <a:solidFill>
                <a:srgbClr val="0095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Box 3"/>
            <p:cNvSpPr/>
            <p:nvPr/>
          </p:nvSpPr>
          <p:spPr>
            <a:xfrm>
              <a:off x="3581280" y="365760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i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AutoShape 3"/>
          <p:cNvSpPr/>
          <p:nvPr/>
        </p:nvSpPr>
        <p:spPr>
          <a:xfrm>
            <a:off x="6553080" y="2133720"/>
            <a:ext cx="18068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reeform 5"/>
          <p:cNvSpPr/>
          <p:nvPr/>
        </p:nvSpPr>
        <p:spPr>
          <a:xfrm>
            <a:off x="6580080" y="2138400"/>
            <a:ext cx="1776600" cy="144468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1444680"/>
              <a:gd name="textAreaBottom" fmla="*/ 1445040 h 1444680"/>
            </a:gdLst>
            <a:ahLst/>
            <a:rect l="textAreaLeft" t="textAreaTop" r="textAreaRight" b="textAreaBottom"/>
            <a:pathLst>
              <a:path w="2238" h="1819">
                <a:moveTo>
                  <a:pt x="1978" y="276"/>
                </a:moveTo>
                <a:lnTo>
                  <a:pt x="1999" y="284"/>
                </a:lnTo>
                <a:lnTo>
                  <a:pt x="2020" y="292"/>
                </a:lnTo>
                <a:lnTo>
                  <a:pt x="2039" y="301"/>
                </a:lnTo>
                <a:lnTo>
                  <a:pt x="2058" y="309"/>
                </a:lnTo>
                <a:lnTo>
                  <a:pt x="2076" y="318"/>
                </a:lnTo>
                <a:lnTo>
                  <a:pt x="2094" y="326"/>
                </a:lnTo>
                <a:lnTo>
                  <a:pt x="2110" y="335"/>
                </a:lnTo>
                <a:lnTo>
                  <a:pt x="2125" y="344"/>
                </a:lnTo>
                <a:lnTo>
                  <a:pt x="2140" y="354"/>
                </a:lnTo>
                <a:lnTo>
                  <a:pt x="2152" y="363"/>
                </a:lnTo>
                <a:lnTo>
                  <a:pt x="2165" y="373"/>
                </a:lnTo>
                <a:lnTo>
                  <a:pt x="2175" y="382"/>
                </a:lnTo>
                <a:lnTo>
                  <a:pt x="2186" y="393"/>
                </a:lnTo>
                <a:lnTo>
                  <a:pt x="2194" y="403"/>
                </a:lnTo>
                <a:lnTo>
                  <a:pt x="2202" y="413"/>
                </a:lnTo>
                <a:lnTo>
                  <a:pt x="2208" y="424"/>
                </a:lnTo>
                <a:lnTo>
                  <a:pt x="2219" y="451"/>
                </a:lnTo>
                <a:lnTo>
                  <a:pt x="2227" y="484"/>
                </a:lnTo>
                <a:lnTo>
                  <a:pt x="2233" y="521"/>
                </a:lnTo>
                <a:lnTo>
                  <a:pt x="2236" y="562"/>
                </a:lnTo>
                <a:lnTo>
                  <a:pt x="2238" y="621"/>
                </a:lnTo>
                <a:lnTo>
                  <a:pt x="2236" y="684"/>
                </a:lnTo>
                <a:lnTo>
                  <a:pt x="2231" y="753"/>
                </a:lnTo>
                <a:lnTo>
                  <a:pt x="2221" y="825"/>
                </a:lnTo>
                <a:lnTo>
                  <a:pt x="2216" y="863"/>
                </a:lnTo>
                <a:lnTo>
                  <a:pt x="2210" y="902"/>
                </a:lnTo>
                <a:lnTo>
                  <a:pt x="2203" y="941"/>
                </a:lnTo>
                <a:lnTo>
                  <a:pt x="2195" y="981"/>
                </a:lnTo>
                <a:lnTo>
                  <a:pt x="2187" y="1022"/>
                </a:lnTo>
                <a:lnTo>
                  <a:pt x="2178" y="1062"/>
                </a:lnTo>
                <a:lnTo>
                  <a:pt x="2168" y="1102"/>
                </a:lnTo>
                <a:lnTo>
                  <a:pt x="2159" y="1142"/>
                </a:lnTo>
                <a:lnTo>
                  <a:pt x="2147" y="1190"/>
                </a:lnTo>
                <a:lnTo>
                  <a:pt x="2134" y="1237"/>
                </a:lnTo>
                <a:lnTo>
                  <a:pt x="2120" y="1284"/>
                </a:lnTo>
                <a:lnTo>
                  <a:pt x="2106" y="1330"/>
                </a:lnTo>
                <a:lnTo>
                  <a:pt x="2091" y="1374"/>
                </a:lnTo>
                <a:lnTo>
                  <a:pt x="2077" y="1418"/>
                </a:lnTo>
                <a:lnTo>
                  <a:pt x="2061" y="1460"/>
                </a:lnTo>
                <a:lnTo>
                  <a:pt x="2046" y="1501"/>
                </a:lnTo>
                <a:lnTo>
                  <a:pt x="2035" y="1531"/>
                </a:lnTo>
                <a:lnTo>
                  <a:pt x="2022" y="1559"/>
                </a:lnTo>
                <a:lnTo>
                  <a:pt x="2011" y="1588"/>
                </a:lnTo>
                <a:lnTo>
                  <a:pt x="1998" y="1615"/>
                </a:lnTo>
                <a:lnTo>
                  <a:pt x="1985" y="1640"/>
                </a:lnTo>
                <a:lnTo>
                  <a:pt x="1973" y="1664"/>
                </a:lnTo>
                <a:lnTo>
                  <a:pt x="1961" y="1686"/>
                </a:lnTo>
                <a:lnTo>
                  <a:pt x="1948" y="1707"/>
                </a:lnTo>
                <a:lnTo>
                  <a:pt x="1936" y="1726"/>
                </a:lnTo>
                <a:lnTo>
                  <a:pt x="1924" y="1744"/>
                </a:lnTo>
                <a:lnTo>
                  <a:pt x="1912" y="1759"/>
                </a:lnTo>
                <a:lnTo>
                  <a:pt x="1899" y="1773"/>
                </a:lnTo>
                <a:lnTo>
                  <a:pt x="1887" y="1784"/>
                </a:lnTo>
                <a:lnTo>
                  <a:pt x="1876" y="1793"/>
                </a:lnTo>
                <a:lnTo>
                  <a:pt x="1864" y="1801"/>
                </a:lnTo>
                <a:lnTo>
                  <a:pt x="1853" y="1806"/>
                </a:lnTo>
                <a:lnTo>
                  <a:pt x="1837" y="1812"/>
                </a:lnTo>
                <a:lnTo>
                  <a:pt x="1821" y="1815"/>
                </a:lnTo>
                <a:lnTo>
                  <a:pt x="1804" y="1817"/>
                </a:lnTo>
                <a:lnTo>
                  <a:pt x="1789" y="1819"/>
                </a:lnTo>
                <a:lnTo>
                  <a:pt x="1775" y="1819"/>
                </a:lnTo>
                <a:lnTo>
                  <a:pt x="1760" y="1817"/>
                </a:lnTo>
                <a:lnTo>
                  <a:pt x="1743" y="1815"/>
                </a:lnTo>
                <a:lnTo>
                  <a:pt x="1728" y="1813"/>
                </a:lnTo>
                <a:lnTo>
                  <a:pt x="1713" y="1808"/>
                </a:lnTo>
                <a:lnTo>
                  <a:pt x="1697" y="1804"/>
                </a:lnTo>
                <a:lnTo>
                  <a:pt x="1681" y="1799"/>
                </a:lnTo>
                <a:lnTo>
                  <a:pt x="1664" y="1793"/>
                </a:lnTo>
                <a:lnTo>
                  <a:pt x="1648" y="1787"/>
                </a:lnTo>
                <a:lnTo>
                  <a:pt x="1629" y="1781"/>
                </a:lnTo>
                <a:lnTo>
                  <a:pt x="1611" y="1775"/>
                </a:lnTo>
                <a:lnTo>
                  <a:pt x="1591" y="1768"/>
                </a:lnTo>
                <a:lnTo>
                  <a:pt x="1575" y="1762"/>
                </a:lnTo>
                <a:lnTo>
                  <a:pt x="1559" y="1758"/>
                </a:lnTo>
                <a:lnTo>
                  <a:pt x="1542" y="1752"/>
                </a:lnTo>
                <a:lnTo>
                  <a:pt x="1523" y="1747"/>
                </a:lnTo>
                <a:lnTo>
                  <a:pt x="1505" y="1741"/>
                </a:lnTo>
                <a:lnTo>
                  <a:pt x="1485" y="1737"/>
                </a:lnTo>
                <a:lnTo>
                  <a:pt x="1465" y="1733"/>
                </a:lnTo>
                <a:lnTo>
                  <a:pt x="1444" y="1729"/>
                </a:lnTo>
                <a:lnTo>
                  <a:pt x="1422" y="1725"/>
                </a:lnTo>
                <a:lnTo>
                  <a:pt x="1398" y="1722"/>
                </a:lnTo>
                <a:lnTo>
                  <a:pt x="1374" y="1720"/>
                </a:lnTo>
                <a:lnTo>
                  <a:pt x="1348" y="1717"/>
                </a:lnTo>
                <a:lnTo>
                  <a:pt x="1323" y="1716"/>
                </a:lnTo>
                <a:lnTo>
                  <a:pt x="1295" y="1715"/>
                </a:lnTo>
                <a:lnTo>
                  <a:pt x="1267" y="1715"/>
                </a:lnTo>
                <a:lnTo>
                  <a:pt x="1237" y="1715"/>
                </a:lnTo>
                <a:lnTo>
                  <a:pt x="1185" y="1716"/>
                </a:lnTo>
                <a:lnTo>
                  <a:pt x="1135" y="1718"/>
                </a:lnTo>
                <a:lnTo>
                  <a:pt x="1087" y="1720"/>
                </a:lnTo>
                <a:lnTo>
                  <a:pt x="1042" y="1722"/>
                </a:lnTo>
                <a:lnTo>
                  <a:pt x="999" y="1725"/>
                </a:lnTo>
                <a:lnTo>
                  <a:pt x="959" y="1728"/>
                </a:lnTo>
                <a:lnTo>
                  <a:pt x="920" y="1731"/>
                </a:lnTo>
                <a:lnTo>
                  <a:pt x="883" y="1733"/>
                </a:lnTo>
                <a:lnTo>
                  <a:pt x="848" y="1737"/>
                </a:lnTo>
                <a:lnTo>
                  <a:pt x="815" y="1740"/>
                </a:lnTo>
                <a:lnTo>
                  <a:pt x="784" y="1743"/>
                </a:lnTo>
                <a:lnTo>
                  <a:pt x="754" y="1746"/>
                </a:lnTo>
                <a:lnTo>
                  <a:pt x="726" y="1749"/>
                </a:lnTo>
                <a:lnTo>
                  <a:pt x="699" y="1753"/>
                </a:lnTo>
                <a:lnTo>
                  <a:pt x="673" y="1755"/>
                </a:lnTo>
                <a:lnTo>
                  <a:pt x="649" y="1759"/>
                </a:lnTo>
                <a:lnTo>
                  <a:pt x="625" y="1761"/>
                </a:lnTo>
                <a:lnTo>
                  <a:pt x="603" y="1763"/>
                </a:lnTo>
                <a:lnTo>
                  <a:pt x="581" y="1766"/>
                </a:lnTo>
                <a:lnTo>
                  <a:pt x="560" y="1768"/>
                </a:lnTo>
                <a:lnTo>
                  <a:pt x="541" y="1769"/>
                </a:lnTo>
                <a:lnTo>
                  <a:pt x="522" y="1770"/>
                </a:lnTo>
                <a:lnTo>
                  <a:pt x="503" y="1771"/>
                </a:lnTo>
                <a:lnTo>
                  <a:pt x="486" y="1773"/>
                </a:lnTo>
                <a:lnTo>
                  <a:pt x="467" y="1773"/>
                </a:lnTo>
                <a:lnTo>
                  <a:pt x="450" y="1771"/>
                </a:lnTo>
                <a:lnTo>
                  <a:pt x="433" y="1770"/>
                </a:lnTo>
                <a:lnTo>
                  <a:pt x="417" y="1769"/>
                </a:lnTo>
                <a:lnTo>
                  <a:pt x="399" y="1767"/>
                </a:lnTo>
                <a:lnTo>
                  <a:pt x="382" y="1764"/>
                </a:lnTo>
                <a:lnTo>
                  <a:pt x="365" y="1761"/>
                </a:lnTo>
                <a:lnTo>
                  <a:pt x="347" y="1756"/>
                </a:lnTo>
                <a:lnTo>
                  <a:pt x="335" y="1753"/>
                </a:lnTo>
                <a:lnTo>
                  <a:pt x="323" y="1749"/>
                </a:lnTo>
                <a:lnTo>
                  <a:pt x="311" y="1746"/>
                </a:lnTo>
                <a:lnTo>
                  <a:pt x="298" y="1741"/>
                </a:lnTo>
                <a:lnTo>
                  <a:pt x="285" y="1737"/>
                </a:lnTo>
                <a:lnTo>
                  <a:pt x="271" y="1732"/>
                </a:lnTo>
                <a:lnTo>
                  <a:pt x="258" y="1726"/>
                </a:lnTo>
                <a:lnTo>
                  <a:pt x="244" y="1721"/>
                </a:lnTo>
                <a:lnTo>
                  <a:pt x="230" y="1714"/>
                </a:lnTo>
                <a:lnTo>
                  <a:pt x="215" y="1707"/>
                </a:lnTo>
                <a:lnTo>
                  <a:pt x="200" y="1700"/>
                </a:lnTo>
                <a:lnTo>
                  <a:pt x="184" y="1692"/>
                </a:lnTo>
                <a:lnTo>
                  <a:pt x="168" y="1684"/>
                </a:lnTo>
                <a:lnTo>
                  <a:pt x="152" y="1676"/>
                </a:lnTo>
                <a:lnTo>
                  <a:pt x="134" y="1667"/>
                </a:lnTo>
                <a:lnTo>
                  <a:pt x="117" y="1657"/>
                </a:lnTo>
                <a:lnTo>
                  <a:pt x="100" y="1646"/>
                </a:lnTo>
                <a:lnTo>
                  <a:pt x="84" y="1632"/>
                </a:lnTo>
                <a:lnTo>
                  <a:pt x="70" y="1616"/>
                </a:lnTo>
                <a:lnTo>
                  <a:pt x="57" y="1597"/>
                </a:lnTo>
                <a:lnTo>
                  <a:pt x="46" y="1577"/>
                </a:lnTo>
                <a:lnTo>
                  <a:pt x="36" y="1554"/>
                </a:lnTo>
                <a:lnTo>
                  <a:pt x="27" y="1529"/>
                </a:lnTo>
                <a:lnTo>
                  <a:pt x="20" y="1503"/>
                </a:lnTo>
                <a:lnTo>
                  <a:pt x="9" y="1442"/>
                </a:lnTo>
                <a:lnTo>
                  <a:pt x="2" y="1373"/>
                </a:lnTo>
                <a:lnTo>
                  <a:pt x="0" y="1300"/>
                </a:lnTo>
                <a:lnTo>
                  <a:pt x="2" y="1223"/>
                </a:lnTo>
                <a:lnTo>
                  <a:pt x="4" y="1177"/>
                </a:lnTo>
                <a:lnTo>
                  <a:pt x="8" y="1131"/>
                </a:lnTo>
                <a:lnTo>
                  <a:pt x="12" y="1085"/>
                </a:lnTo>
                <a:lnTo>
                  <a:pt x="17" y="1038"/>
                </a:lnTo>
                <a:lnTo>
                  <a:pt x="23" y="990"/>
                </a:lnTo>
                <a:lnTo>
                  <a:pt x="30" y="944"/>
                </a:lnTo>
                <a:lnTo>
                  <a:pt x="36" y="898"/>
                </a:lnTo>
                <a:lnTo>
                  <a:pt x="43" y="852"/>
                </a:lnTo>
                <a:lnTo>
                  <a:pt x="55" y="784"/>
                </a:lnTo>
                <a:lnTo>
                  <a:pt x="66" y="720"/>
                </a:lnTo>
                <a:lnTo>
                  <a:pt x="78" y="659"/>
                </a:lnTo>
                <a:lnTo>
                  <a:pt x="88" y="602"/>
                </a:lnTo>
                <a:lnTo>
                  <a:pt x="97" y="550"/>
                </a:lnTo>
                <a:lnTo>
                  <a:pt x="106" y="506"/>
                </a:lnTo>
                <a:lnTo>
                  <a:pt x="112" y="466"/>
                </a:lnTo>
                <a:lnTo>
                  <a:pt x="117" y="435"/>
                </a:lnTo>
                <a:lnTo>
                  <a:pt x="122" y="400"/>
                </a:lnTo>
                <a:lnTo>
                  <a:pt x="127" y="365"/>
                </a:lnTo>
                <a:lnTo>
                  <a:pt x="134" y="332"/>
                </a:lnTo>
                <a:lnTo>
                  <a:pt x="141" y="298"/>
                </a:lnTo>
                <a:lnTo>
                  <a:pt x="150" y="268"/>
                </a:lnTo>
                <a:lnTo>
                  <a:pt x="160" y="238"/>
                </a:lnTo>
                <a:lnTo>
                  <a:pt x="170" y="210"/>
                </a:lnTo>
                <a:lnTo>
                  <a:pt x="183" y="183"/>
                </a:lnTo>
                <a:lnTo>
                  <a:pt x="197" y="158"/>
                </a:lnTo>
                <a:lnTo>
                  <a:pt x="213" y="134"/>
                </a:lnTo>
                <a:lnTo>
                  <a:pt x="231" y="112"/>
                </a:lnTo>
                <a:lnTo>
                  <a:pt x="251" y="92"/>
                </a:lnTo>
                <a:lnTo>
                  <a:pt x="274" y="74"/>
                </a:lnTo>
                <a:lnTo>
                  <a:pt x="298" y="58"/>
                </a:lnTo>
                <a:lnTo>
                  <a:pt x="326" y="43"/>
                </a:lnTo>
                <a:lnTo>
                  <a:pt x="355" y="30"/>
                </a:lnTo>
                <a:lnTo>
                  <a:pt x="369" y="25"/>
                </a:lnTo>
                <a:lnTo>
                  <a:pt x="384" y="21"/>
                </a:lnTo>
                <a:lnTo>
                  <a:pt x="400" y="16"/>
                </a:lnTo>
                <a:lnTo>
                  <a:pt x="417" y="13"/>
                </a:lnTo>
                <a:lnTo>
                  <a:pt x="434" y="9"/>
                </a:lnTo>
                <a:lnTo>
                  <a:pt x="451" y="7"/>
                </a:lnTo>
                <a:lnTo>
                  <a:pt x="469" y="5"/>
                </a:lnTo>
                <a:lnTo>
                  <a:pt x="488" y="2"/>
                </a:lnTo>
                <a:lnTo>
                  <a:pt x="508" y="1"/>
                </a:lnTo>
                <a:lnTo>
                  <a:pt x="527" y="0"/>
                </a:lnTo>
                <a:lnTo>
                  <a:pt x="549" y="0"/>
                </a:lnTo>
                <a:lnTo>
                  <a:pt x="570" y="0"/>
                </a:lnTo>
                <a:lnTo>
                  <a:pt x="593" y="0"/>
                </a:lnTo>
                <a:lnTo>
                  <a:pt x="616" y="1"/>
                </a:lnTo>
                <a:lnTo>
                  <a:pt x="640" y="2"/>
                </a:lnTo>
                <a:lnTo>
                  <a:pt x="664" y="5"/>
                </a:lnTo>
                <a:lnTo>
                  <a:pt x="685" y="7"/>
                </a:lnTo>
                <a:lnTo>
                  <a:pt x="707" y="9"/>
                </a:lnTo>
                <a:lnTo>
                  <a:pt x="728" y="11"/>
                </a:lnTo>
                <a:lnTo>
                  <a:pt x="751" y="15"/>
                </a:lnTo>
                <a:lnTo>
                  <a:pt x="774" y="18"/>
                </a:lnTo>
                <a:lnTo>
                  <a:pt x="797" y="22"/>
                </a:lnTo>
                <a:lnTo>
                  <a:pt x="821" y="26"/>
                </a:lnTo>
                <a:lnTo>
                  <a:pt x="846" y="31"/>
                </a:lnTo>
                <a:lnTo>
                  <a:pt x="870" y="36"/>
                </a:lnTo>
                <a:lnTo>
                  <a:pt x="897" y="41"/>
                </a:lnTo>
                <a:lnTo>
                  <a:pt x="923" y="47"/>
                </a:lnTo>
                <a:lnTo>
                  <a:pt x="950" y="53"/>
                </a:lnTo>
                <a:lnTo>
                  <a:pt x="977" y="60"/>
                </a:lnTo>
                <a:lnTo>
                  <a:pt x="1006" y="67"/>
                </a:lnTo>
                <a:lnTo>
                  <a:pt x="1035" y="74"/>
                </a:lnTo>
                <a:lnTo>
                  <a:pt x="1065" y="82"/>
                </a:lnTo>
                <a:lnTo>
                  <a:pt x="1073" y="84"/>
                </a:lnTo>
                <a:lnTo>
                  <a:pt x="1085" y="86"/>
                </a:lnTo>
                <a:lnTo>
                  <a:pt x="1097" y="89"/>
                </a:lnTo>
                <a:lnTo>
                  <a:pt x="1113" y="91"/>
                </a:lnTo>
                <a:lnTo>
                  <a:pt x="1131" y="94"/>
                </a:lnTo>
                <a:lnTo>
                  <a:pt x="1150" y="97"/>
                </a:lnTo>
                <a:lnTo>
                  <a:pt x="1172" y="100"/>
                </a:lnTo>
                <a:lnTo>
                  <a:pt x="1195" y="104"/>
                </a:lnTo>
                <a:lnTo>
                  <a:pt x="1220" y="108"/>
                </a:lnTo>
                <a:lnTo>
                  <a:pt x="1247" y="112"/>
                </a:lnTo>
                <a:lnTo>
                  <a:pt x="1275" y="116"/>
                </a:lnTo>
                <a:lnTo>
                  <a:pt x="1303" y="121"/>
                </a:lnTo>
                <a:lnTo>
                  <a:pt x="1335" y="127"/>
                </a:lnTo>
                <a:lnTo>
                  <a:pt x="1366" y="131"/>
                </a:lnTo>
                <a:lnTo>
                  <a:pt x="1399" y="137"/>
                </a:lnTo>
                <a:lnTo>
                  <a:pt x="1432" y="143"/>
                </a:lnTo>
                <a:lnTo>
                  <a:pt x="1466" y="148"/>
                </a:lnTo>
                <a:lnTo>
                  <a:pt x="1500" y="155"/>
                </a:lnTo>
                <a:lnTo>
                  <a:pt x="1536" y="162"/>
                </a:lnTo>
                <a:lnTo>
                  <a:pt x="1571" y="169"/>
                </a:lnTo>
                <a:lnTo>
                  <a:pt x="1606" y="176"/>
                </a:lnTo>
                <a:lnTo>
                  <a:pt x="1642" y="183"/>
                </a:lnTo>
                <a:lnTo>
                  <a:pt x="1678" y="191"/>
                </a:lnTo>
                <a:lnTo>
                  <a:pt x="1713" y="199"/>
                </a:lnTo>
                <a:lnTo>
                  <a:pt x="1749" y="208"/>
                </a:lnTo>
                <a:lnTo>
                  <a:pt x="1784" y="216"/>
                </a:lnTo>
                <a:lnTo>
                  <a:pt x="1818" y="226"/>
                </a:lnTo>
                <a:lnTo>
                  <a:pt x="1852" y="235"/>
                </a:lnTo>
                <a:lnTo>
                  <a:pt x="1885" y="245"/>
                </a:lnTo>
                <a:lnTo>
                  <a:pt x="1917" y="256"/>
                </a:lnTo>
                <a:lnTo>
                  <a:pt x="1948" y="266"/>
                </a:lnTo>
                <a:lnTo>
                  <a:pt x="1978" y="276"/>
                </a:lnTo>
                <a:close/>
              </a:path>
            </a:pathLst>
          </a:custGeom>
          <a:solidFill>
            <a:srgbClr val="db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6"/>
          <p:cNvSpPr/>
          <p:nvPr/>
        </p:nvSpPr>
        <p:spPr>
          <a:xfrm>
            <a:off x="7286760" y="2279520"/>
            <a:ext cx="858600" cy="866880"/>
          </a:xfrm>
          <a:custGeom>
            <a:avLst/>
            <a:gdLst>
              <a:gd name="textAreaLeft" fmla="*/ 0 w 858600"/>
              <a:gd name="textAreaRight" fmla="*/ 858960 w 85860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080" h="1092">
                <a:moveTo>
                  <a:pt x="741" y="6"/>
                </a:moveTo>
                <a:lnTo>
                  <a:pt x="738" y="24"/>
                </a:lnTo>
                <a:lnTo>
                  <a:pt x="735" y="45"/>
                </a:lnTo>
                <a:lnTo>
                  <a:pt x="731" y="66"/>
                </a:lnTo>
                <a:lnTo>
                  <a:pt x="727" y="87"/>
                </a:lnTo>
                <a:lnTo>
                  <a:pt x="722" y="107"/>
                </a:lnTo>
                <a:lnTo>
                  <a:pt x="717" y="126"/>
                </a:lnTo>
                <a:lnTo>
                  <a:pt x="712" y="142"/>
                </a:lnTo>
                <a:lnTo>
                  <a:pt x="706" y="154"/>
                </a:lnTo>
                <a:lnTo>
                  <a:pt x="698" y="171"/>
                </a:lnTo>
                <a:lnTo>
                  <a:pt x="690" y="189"/>
                </a:lnTo>
                <a:lnTo>
                  <a:pt x="679" y="207"/>
                </a:lnTo>
                <a:lnTo>
                  <a:pt x="669" y="225"/>
                </a:lnTo>
                <a:lnTo>
                  <a:pt x="656" y="239"/>
                </a:lnTo>
                <a:lnTo>
                  <a:pt x="644" y="249"/>
                </a:lnTo>
                <a:lnTo>
                  <a:pt x="630" y="254"/>
                </a:lnTo>
                <a:lnTo>
                  <a:pt x="615" y="251"/>
                </a:lnTo>
                <a:lnTo>
                  <a:pt x="597" y="241"/>
                </a:lnTo>
                <a:lnTo>
                  <a:pt x="582" y="227"/>
                </a:lnTo>
                <a:lnTo>
                  <a:pt x="568" y="211"/>
                </a:lnTo>
                <a:lnTo>
                  <a:pt x="556" y="194"/>
                </a:lnTo>
                <a:lnTo>
                  <a:pt x="546" y="174"/>
                </a:lnTo>
                <a:lnTo>
                  <a:pt x="534" y="156"/>
                </a:lnTo>
                <a:lnTo>
                  <a:pt x="524" y="136"/>
                </a:lnTo>
                <a:lnTo>
                  <a:pt x="512" y="118"/>
                </a:lnTo>
                <a:lnTo>
                  <a:pt x="509" y="130"/>
                </a:lnTo>
                <a:lnTo>
                  <a:pt x="502" y="148"/>
                </a:lnTo>
                <a:lnTo>
                  <a:pt x="493" y="169"/>
                </a:lnTo>
                <a:lnTo>
                  <a:pt x="483" y="194"/>
                </a:lnTo>
                <a:lnTo>
                  <a:pt x="471" y="217"/>
                </a:lnTo>
                <a:lnTo>
                  <a:pt x="459" y="237"/>
                </a:lnTo>
                <a:lnTo>
                  <a:pt x="448" y="254"/>
                </a:lnTo>
                <a:lnTo>
                  <a:pt x="438" y="264"/>
                </a:lnTo>
                <a:lnTo>
                  <a:pt x="423" y="272"/>
                </a:lnTo>
                <a:lnTo>
                  <a:pt x="408" y="279"/>
                </a:lnTo>
                <a:lnTo>
                  <a:pt x="393" y="283"/>
                </a:lnTo>
                <a:lnTo>
                  <a:pt x="378" y="287"/>
                </a:lnTo>
                <a:lnTo>
                  <a:pt x="363" y="288"/>
                </a:lnTo>
                <a:lnTo>
                  <a:pt x="348" y="288"/>
                </a:lnTo>
                <a:lnTo>
                  <a:pt x="334" y="287"/>
                </a:lnTo>
                <a:lnTo>
                  <a:pt x="320" y="283"/>
                </a:lnTo>
                <a:lnTo>
                  <a:pt x="305" y="278"/>
                </a:lnTo>
                <a:lnTo>
                  <a:pt x="291" y="272"/>
                </a:lnTo>
                <a:lnTo>
                  <a:pt x="278" y="264"/>
                </a:lnTo>
                <a:lnTo>
                  <a:pt x="264" y="255"/>
                </a:lnTo>
                <a:lnTo>
                  <a:pt x="250" y="243"/>
                </a:lnTo>
                <a:lnTo>
                  <a:pt x="236" y="232"/>
                </a:lnTo>
                <a:lnTo>
                  <a:pt x="223" y="218"/>
                </a:lnTo>
                <a:lnTo>
                  <a:pt x="210" y="203"/>
                </a:lnTo>
                <a:lnTo>
                  <a:pt x="200" y="221"/>
                </a:lnTo>
                <a:lnTo>
                  <a:pt x="187" y="243"/>
                </a:lnTo>
                <a:lnTo>
                  <a:pt x="170" y="265"/>
                </a:lnTo>
                <a:lnTo>
                  <a:pt x="153" y="288"/>
                </a:lnTo>
                <a:lnTo>
                  <a:pt x="136" y="308"/>
                </a:lnTo>
                <a:lnTo>
                  <a:pt x="122" y="325"/>
                </a:lnTo>
                <a:lnTo>
                  <a:pt x="112" y="335"/>
                </a:lnTo>
                <a:lnTo>
                  <a:pt x="108" y="340"/>
                </a:lnTo>
                <a:lnTo>
                  <a:pt x="100" y="348"/>
                </a:lnTo>
                <a:lnTo>
                  <a:pt x="91" y="357"/>
                </a:lnTo>
                <a:lnTo>
                  <a:pt x="83" y="365"/>
                </a:lnTo>
                <a:lnTo>
                  <a:pt x="78" y="370"/>
                </a:lnTo>
                <a:lnTo>
                  <a:pt x="101" y="388"/>
                </a:lnTo>
                <a:lnTo>
                  <a:pt x="123" y="408"/>
                </a:lnTo>
                <a:lnTo>
                  <a:pt x="144" y="431"/>
                </a:lnTo>
                <a:lnTo>
                  <a:pt x="162" y="456"/>
                </a:lnTo>
                <a:lnTo>
                  <a:pt x="178" y="484"/>
                </a:lnTo>
                <a:lnTo>
                  <a:pt x="191" y="513"/>
                </a:lnTo>
                <a:lnTo>
                  <a:pt x="200" y="544"/>
                </a:lnTo>
                <a:lnTo>
                  <a:pt x="206" y="577"/>
                </a:lnTo>
                <a:lnTo>
                  <a:pt x="220" y="559"/>
                </a:lnTo>
                <a:lnTo>
                  <a:pt x="235" y="543"/>
                </a:lnTo>
                <a:lnTo>
                  <a:pt x="251" y="528"/>
                </a:lnTo>
                <a:lnTo>
                  <a:pt x="268" y="517"/>
                </a:lnTo>
                <a:lnTo>
                  <a:pt x="286" y="512"/>
                </a:lnTo>
                <a:lnTo>
                  <a:pt x="303" y="509"/>
                </a:lnTo>
                <a:lnTo>
                  <a:pt x="320" y="514"/>
                </a:lnTo>
                <a:lnTo>
                  <a:pt x="337" y="525"/>
                </a:lnTo>
                <a:lnTo>
                  <a:pt x="349" y="538"/>
                </a:lnTo>
                <a:lnTo>
                  <a:pt x="359" y="552"/>
                </a:lnTo>
                <a:lnTo>
                  <a:pt x="367" y="568"/>
                </a:lnTo>
                <a:lnTo>
                  <a:pt x="374" y="585"/>
                </a:lnTo>
                <a:lnTo>
                  <a:pt x="379" y="604"/>
                </a:lnTo>
                <a:lnTo>
                  <a:pt x="380" y="622"/>
                </a:lnTo>
                <a:lnTo>
                  <a:pt x="380" y="642"/>
                </a:lnTo>
                <a:lnTo>
                  <a:pt x="378" y="662"/>
                </a:lnTo>
                <a:lnTo>
                  <a:pt x="372" y="684"/>
                </a:lnTo>
                <a:lnTo>
                  <a:pt x="363" y="710"/>
                </a:lnTo>
                <a:lnTo>
                  <a:pt x="350" y="736"/>
                </a:lnTo>
                <a:lnTo>
                  <a:pt x="337" y="763"/>
                </a:lnTo>
                <a:lnTo>
                  <a:pt x="324" y="786"/>
                </a:lnTo>
                <a:lnTo>
                  <a:pt x="313" y="806"/>
                </a:lnTo>
                <a:lnTo>
                  <a:pt x="304" y="820"/>
                </a:lnTo>
                <a:lnTo>
                  <a:pt x="301" y="826"/>
                </a:lnTo>
                <a:lnTo>
                  <a:pt x="318" y="837"/>
                </a:lnTo>
                <a:lnTo>
                  <a:pt x="333" y="852"/>
                </a:lnTo>
                <a:lnTo>
                  <a:pt x="347" y="871"/>
                </a:lnTo>
                <a:lnTo>
                  <a:pt x="359" y="890"/>
                </a:lnTo>
                <a:lnTo>
                  <a:pt x="368" y="911"/>
                </a:lnTo>
                <a:lnTo>
                  <a:pt x="377" y="934"/>
                </a:lnTo>
                <a:lnTo>
                  <a:pt x="382" y="957"/>
                </a:lnTo>
                <a:lnTo>
                  <a:pt x="385" y="981"/>
                </a:lnTo>
                <a:lnTo>
                  <a:pt x="385" y="981"/>
                </a:lnTo>
                <a:lnTo>
                  <a:pt x="385" y="980"/>
                </a:lnTo>
                <a:lnTo>
                  <a:pt x="385" y="980"/>
                </a:lnTo>
                <a:lnTo>
                  <a:pt x="386" y="980"/>
                </a:lnTo>
                <a:lnTo>
                  <a:pt x="404" y="966"/>
                </a:lnTo>
                <a:lnTo>
                  <a:pt x="424" y="954"/>
                </a:lnTo>
                <a:lnTo>
                  <a:pt x="445" y="946"/>
                </a:lnTo>
                <a:lnTo>
                  <a:pt x="466" y="939"/>
                </a:lnTo>
                <a:lnTo>
                  <a:pt x="488" y="937"/>
                </a:lnTo>
                <a:lnTo>
                  <a:pt x="510" y="937"/>
                </a:lnTo>
                <a:lnTo>
                  <a:pt x="531" y="940"/>
                </a:lnTo>
                <a:lnTo>
                  <a:pt x="550" y="947"/>
                </a:lnTo>
                <a:lnTo>
                  <a:pt x="553" y="939"/>
                </a:lnTo>
                <a:lnTo>
                  <a:pt x="556" y="923"/>
                </a:lnTo>
                <a:lnTo>
                  <a:pt x="563" y="901"/>
                </a:lnTo>
                <a:lnTo>
                  <a:pt x="571" y="874"/>
                </a:lnTo>
                <a:lnTo>
                  <a:pt x="580" y="846"/>
                </a:lnTo>
                <a:lnTo>
                  <a:pt x="592" y="819"/>
                </a:lnTo>
                <a:lnTo>
                  <a:pt x="602" y="794"/>
                </a:lnTo>
                <a:lnTo>
                  <a:pt x="614" y="775"/>
                </a:lnTo>
                <a:lnTo>
                  <a:pt x="625" y="760"/>
                </a:lnTo>
                <a:lnTo>
                  <a:pt x="639" y="748"/>
                </a:lnTo>
                <a:lnTo>
                  <a:pt x="654" y="737"/>
                </a:lnTo>
                <a:lnTo>
                  <a:pt x="669" y="729"/>
                </a:lnTo>
                <a:lnTo>
                  <a:pt x="685" y="723"/>
                </a:lnTo>
                <a:lnTo>
                  <a:pt x="703" y="720"/>
                </a:lnTo>
                <a:lnTo>
                  <a:pt x="719" y="719"/>
                </a:lnTo>
                <a:lnTo>
                  <a:pt x="735" y="721"/>
                </a:lnTo>
                <a:lnTo>
                  <a:pt x="753" y="728"/>
                </a:lnTo>
                <a:lnTo>
                  <a:pt x="767" y="740"/>
                </a:lnTo>
                <a:lnTo>
                  <a:pt x="777" y="755"/>
                </a:lnTo>
                <a:lnTo>
                  <a:pt x="784" y="773"/>
                </a:lnTo>
                <a:lnTo>
                  <a:pt x="788" y="794"/>
                </a:lnTo>
                <a:lnTo>
                  <a:pt x="789" y="817"/>
                </a:lnTo>
                <a:lnTo>
                  <a:pt x="788" y="840"/>
                </a:lnTo>
                <a:lnTo>
                  <a:pt x="784" y="863"/>
                </a:lnTo>
                <a:lnTo>
                  <a:pt x="797" y="854"/>
                </a:lnTo>
                <a:lnTo>
                  <a:pt x="808" y="844"/>
                </a:lnTo>
                <a:lnTo>
                  <a:pt x="821" y="837"/>
                </a:lnTo>
                <a:lnTo>
                  <a:pt x="833" y="831"/>
                </a:lnTo>
                <a:lnTo>
                  <a:pt x="844" y="825"/>
                </a:lnTo>
                <a:lnTo>
                  <a:pt x="856" y="819"/>
                </a:lnTo>
                <a:lnTo>
                  <a:pt x="867" y="816"/>
                </a:lnTo>
                <a:lnTo>
                  <a:pt x="880" y="813"/>
                </a:lnTo>
                <a:lnTo>
                  <a:pt x="893" y="812"/>
                </a:lnTo>
                <a:lnTo>
                  <a:pt x="906" y="811"/>
                </a:lnTo>
                <a:lnTo>
                  <a:pt x="921" y="812"/>
                </a:lnTo>
                <a:lnTo>
                  <a:pt x="936" y="814"/>
                </a:lnTo>
                <a:lnTo>
                  <a:pt x="952" y="818"/>
                </a:lnTo>
                <a:lnTo>
                  <a:pt x="971" y="823"/>
                </a:lnTo>
                <a:lnTo>
                  <a:pt x="989" y="828"/>
                </a:lnTo>
                <a:lnTo>
                  <a:pt x="1010" y="835"/>
                </a:lnTo>
                <a:lnTo>
                  <a:pt x="1008" y="828"/>
                </a:lnTo>
                <a:lnTo>
                  <a:pt x="1004" y="814"/>
                </a:lnTo>
                <a:lnTo>
                  <a:pt x="1001" y="799"/>
                </a:lnTo>
                <a:lnTo>
                  <a:pt x="999" y="788"/>
                </a:lnTo>
                <a:lnTo>
                  <a:pt x="1000" y="783"/>
                </a:lnTo>
                <a:lnTo>
                  <a:pt x="1002" y="772"/>
                </a:lnTo>
                <a:lnTo>
                  <a:pt x="1007" y="756"/>
                </a:lnTo>
                <a:lnTo>
                  <a:pt x="1011" y="734"/>
                </a:lnTo>
                <a:lnTo>
                  <a:pt x="1017" y="712"/>
                </a:lnTo>
                <a:lnTo>
                  <a:pt x="1024" y="689"/>
                </a:lnTo>
                <a:lnTo>
                  <a:pt x="1032" y="667"/>
                </a:lnTo>
                <a:lnTo>
                  <a:pt x="1039" y="650"/>
                </a:lnTo>
                <a:lnTo>
                  <a:pt x="1025" y="643"/>
                </a:lnTo>
                <a:lnTo>
                  <a:pt x="1011" y="636"/>
                </a:lnTo>
                <a:lnTo>
                  <a:pt x="996" y="628"/>
                </a:lnTo>
                <a:lnTo>
                  <a:pt x="981" y="620"/>
                </a:lnTo>
                <a:lnTo>
                  <a:pt x="966" y="611"/>
                </a:lnTo>
                <a:lnTo>
                  <a:pt x="952" y="603"/>
                </a:lnTo>
                <a:lnTo>
                  <a:pt x="937" y="592"/>
                </a:lnTo>
                <a:lnTo>
                  <a:pt x="924" y="582"/>
                </a:lnTo>
                <a:lnTo>
                  <a:pt x="911" y="570"/>
                </a:lnTo>
                <a:lnTo>
                  <a:pt x="898" y="559"/>
                </a:lnTo>
                <a:lnTo>
                  <a:pt x="887" y="546"/>
                </a:lnTo>
                <a:lnTo>
                  <a:pt x="876" y="532"/>
                </a:lnTo>
                <a:lnTo>
                  <a:pt x="867" y="517"/>
                </a:lnTo>
                <a:lnTo>
                  <a:pt x="859" y="501"/>
                </a:lnTo>
                <a:lnTo>
                  <a:pt x="853" y="485"/>
                </a:lnTo>
                <a:lnTo>
                  <a:pt x="849" y="467"/>
                </a:lnTo>
                <a:lnTo>
                  <a:pt x="849" y="452"/>
                </a:lnTo>
                <a:lnTo>
                  <a:pt x="852" y="431"/>
                </a:lnTo>
                <a:lnTo>
                  <a:pt x="859" y="408"/>
                </a:lnTo>
                <a:lnTo>
                  <a:pt x="868" y="383"/>
                </a:lnTo>
                <a:lnTo>
                  <a:pt x="878" y="358"/>
                </a:lnTo>
                <a:lnTo>
                  <a:pt x="887" y="336"/>
                </a:lnTo>
                <a:lnTo>
                  <a:pt x="895" y="319"/>
                </a:lnTo>
                <a:lnTo>
                  <a:pt x="902" y="309"/>
                </a:lnTo>
                <a:lnTo>
                  <a:pt x="891" y="310"/>
                </a:lnTo>
                <a:lnTo>
                  <a:pt x="881" y="311"/>
                </a:lnTo>
                <a:lnTo>
                  <a:pt x="870" y="312"/>
                </a:lnTo>
                <a:lnTo>
                  <a:pt x="858" y="315"/>
                </a:lnTo>
                <a:lnTo>
                  <a:pt x="847" y="316"/>
                </a:lnTo>
                <a:lnTo>
                  <a:pt x="835" y="318"/>
                </a:lnTo>
                <a:lnTo>
                  <a:pt x="822" y="318"/>
                </a:lnTo>
                <a:lnTo>
                  <a:pt x="810" y="319"/>
                </a:lnTo>
                <a:lnTo>
                  <a:pt x="797" y="318"/>
                </a:lnTo>
                <a:lnTo>
                  <a:pt x="783" y="317"/>
                </a:lnTo>
                <a:lnTo>
                  <a:pt x="770" y="313"/>
                </a:lnTo>
                <a:lnTo>
                  <a:pt x="757" y="309"/>
                </a:lnTo>
                <a:lnTo>
                  <a:pt x="743" y="303"/>
                </a:lnTo>
                <a:lnTo>
                  <a:pt x="729" y="296"/>
                </a:lnTo>
                <a:lnTo>
                  <a:pt x="714" y="286"/>
                </a:lnTo>
                <a:lnTo>
                  <a:pt x="700" y="274"/>
                </a:lnTo>
                <a:lnTo>
                  <a:pt x="741" y="237"/>
                </a:lnTo>
                <a:lnTo>
                  <a:pt x="752" y="252"/>
                </a:lnTo>
                <a:lnTo>
                  <a:pt x="766" y="264"/>
                </a:lnTo>
                <a:lnTo>
                  <a:pt x="782" y="273"/>
                </a:lnTo>
                <a:lnTo>
                  <a:pt x="799" y="279"/>
                </a:lnTo>
                <a:lnTo>
                  <a:pt x="818" y="282"/>
                </a:lnTo>
                <a:lnTo>
                  <a:pt x="838" y="283"/>
                </a:lnTo>
                <a:lnTo>
                  <a:pt x="859" y="282"/>
                </a:lnTo>
                <a:lnTo>
                  <a:pt x="880" y="281"/>
                </a:lnTo>
                <a:lnTo>
                  <a:pt x="902" y="279"/>
                </a:lnTo>
                <a:lnTo>
                  <a:pt x="923" y="277"/>
                </a:lnTo>
                <a:lnTo>
                  <a:pt x="943" y="273"/>
                </a:lnTo>
                <a:lnTo>
                  <a:pt x="963" y="271"/>
                </a:lnTo>
                <a:lnTo>
                  <a:pt x="981" y="269"/>
                </a:lnTo>
                <a:lnTo>
                  <a:pt x="997" y="267"/>
                </a:lnTo>
                <a:lnTo>
                  <a:pt x="1012" y="269"/>
                </a:lnTo>
                <a:lnTo>
                  <a:pt x="1025" y="271"/>
                </a:lnTo>
                <a:lnTo>
                  <a:pt x="1008" y="281"/>
                </a:lnTo>
                <a:lnTo>
                  <a:pt x="988" y="293"/>
                </a:lnTo>
                <a:lnTo>
                  <a:pt x="966" y="307"/>
                </a:lnTo>
                <a:lnTo>
                  <a:pt x="946" y="324"/>
                </a:lnTo>
                <a:lnTo>
                  <a:pt x="926" y="343"/>
                </a:lnTo>
                <a:lnTo>
                  <a:pt x="909" y="366"/>
                </a:lnTo>
                <a:lnTo>
                  <a:pt x="896" y="393"/>
                </a:lnTo>
                <a:lnTo>
                  <a:pt x="887" y="423"/>
                </a:lnTo>
                <a:lnTo>
                  <a:pt x="887" y="455"/>
                </a:lnTo>
                <a:lnTo>
                  <a:pt x="890" y="483"/>
                </a:lnTo>
                <a:lnTo>
                  <a:pt x="898" y="505"/>
                </a:lnTo>
                <a:lnTo>
                  <a:pt x="910" y="520"/>
                </a:lnTo>
                <a:lnTo>
                  <a:pt x="929" y="535"/>
                </a:lnTo>
                <a:lnTo>
                  <a:pt x="949" y="548"/>
                </a:lnTo>
                <a:lnTo>
                  <a:pt x="970" y="561"/>
                </a:lnTo>
                <a:lnTo>
                  <a:pt x="992" y="573"/>
                </a:lnTo>
                <a:lnTo>
                  <a:pt x="1012" y="582"/>
                </a:lnTo>
                <a:lnTo>
                  <a:pt x="1035" y="591"/>
                </a:lnTo>
                <a:lnTo>
                  <a:pt x="1057" y="599"/>
                </a:lnTo>
                <a:lnTo>
                  <a:pt x="1080" y="606"/>
                </a:lnTo>
                <a:lnTo>
                  <a:pt x="1061" y="647"/>
                </a:lnTo>
                <a:lnTo>
                  <a:pt x="1047" y="690"/>
                </a:lnTo>
                <a:lnTo>
                  <a:pt x="1037" y="732"/>
                </a:lnTo>
                <a:lnTo>
                  <a:pt x="1032" y="772"/>
                </a:lnTo>
                <a:lnTo>
                  <a:pt x="1028" y="808"/>
                </a:lnTo>
                <a:lnTo>
                  <a:pt x="1027" y="839"/>
                </a:lnTo>
                <a:lnTo>
                  <a:pt x="1027" y="862"/>
                </a:lnTo>
                <a:lnTo>
                  <a:pt x="1027" y="876"/>
                </a:lnTo>
                <a:lnTo>
                  <a:pt x="1012" y="870"/>
                </a:lnTo>
                <a:lnTo>
                  <a:pt x="997" y="865"/>
                </a:lnTo>
                <a:lnTo>
                  <a:pt x="981" y="861"/>
                </a:lnTo>
                <a:lnTo>
                  <a:pt x="965" y="857"/>
                </a:lnTo>
                <a:lnTo>
                  <a:pt x="948" y="855"/>
                </a:lnTo>
                <a:lnTo>
                  <a:pt x="932" y="854"/>
                </a:lnTo>
                <a:lnTo>
                  <a:pt x="914" y="854"/>
                </a:lnTo>
                <a:lnTo>
                  <a:pt x="897" y="855"/>
                </a:lnTo>
                <a:lnTo>
                  <a:pt x="881" y="856"/>
                </a:lnTo>
                <a:lnTo>
                  <a:pt x="864" y="859"/>
                </a:lnTo>
                <a:lnTo>
                  <a:pt x="848" y="864"/>
                </a:lnTo>
                <a:lnTo>
                  <a:pt x="830" y="870"/>
                </a:lnTo>
                <a:lnTo>
                  <a:pt x="814" y="877"/>
                </a:lnTo>
                <a:lnTo>
                  <a:pt x="799" y="886"/>
                </a:lnTo>
                <a:lnTo>
                  <a:pt x="784" y="896"/>
                </a:lnTo>
                <a:lnTo>
                  <a:pt x="769" y="908"/>
                </a:lnTo>
                <a:lnTo>
                  <a:pt x="768" y="900"/>
                </a:lnTo>
                <a:lnTo>
                  <a:pt x="766" y="884"/>
                </a:lnTo>
                <a:lnTo>
                  <a:pt x="762" y="862"/>
                </a:lnTo>
                <a:lnTo>
                  <a:pt x="757" y="837"/>
                </a:lnTo>
                <a:lnTo>
                  <a:pt x="750" y="813"/>
                </a:lnTo>
                <a:lnTo>
                  <a:pt x="742" y="791"/>
                </a:lnTo>
                <a:lnTo>
                  <a:pt x="734" y="775"/>
                </a:lnTo>
                <a:lnTo>
                  <a:pt x="723" y="768"/>
                </a:lnTo>
                <a:lnTo>
                  <a:pt x="681" y="772"/>
                </a:lnTo>
                <a:lnTo>
                  <a:pt x="646" y="795"/>
                </a:lnTo>
                <a:lnTo>
                  <a:pt x="620" y="832"/>
                </a:lnTo>
                <a:lnTo>
                  <a:pt x="599" y="876"/>
                </a:lnTo>
                <a:lnTo>
                  <a:pt x="585" y="922"/>
                </a:lnTo>
                <a:lnTo>
                  <a:pt x="577" y="964"/>
                </a:lnTo>
                <a:lnTo>
                  <a:pt x="574" y="996"/>
                </a:lnTo>
                <a:lnTo>
                  <a:pt x="574" y="1013"/>
                </a:lnTo>
                <a:lnTo>
                  <a:pt x="555" y="993"/>
                </a:lnTo>
                <a:lnTo>
                  <a:pt x="536" y="980"/>
                </a:lnTo>
                <a:lnTo>
                  <a:pt x="515" y="973"/>
                </a:lnTo>
                <a:lnTo>
                  <a:pt x="495" y="972"/>
                </a:lnTo>
                <a:lnTo>
                  <a:pt x="476" y="976"/>
                </a:lnTo>
                <a:lnTo>
                  <a:pt x="456" y="983"/>
                </a:lnTo>
                <a:lnTo>
                  <a:pt x="436" y="993"/>
                </a:lnTo>
                <a:lnTo>
                  <a:pt x="419" y="1006"/>
                </a:lnTo>
                <a:lnTo>
                  <a:pt x="402" y="1019"/>
                </a:lnTo>
                <a:lnTo>
                  <a:pt x="387" y="1033"/>
                </a:lnTo>
                <a:lnTo>
                  <a:pt x="373" y="1048"/>
                </a:lnTo>
                <a:lnTo>
                  <a:pt x="362" y="1062"/>
                </a:lnTo>
                <a:lnTo>
                  <a:pt x="351" y="1074"/>
                </a:lnTo>
                <a:lnTo>
                  <a:pt x="344" y="1084"/>
                </a:lnTo>
                <a:lnTo>
                  <a:pt x="340" y="1090"/>
                </a:lnTo>
                <a:lnTo>
                  <a:pt x="339" y="1092"/>
                </a:lnTo>
                <a:lnTo>
                  <a:pt x="339" y="1025"/>
                </a:lnTo>
                <a:lnTo>
                  <a:pt x="332" y="972"/>
                </a:lnTo>
                <a:lnTo>
                  <a:pt x="319" y="932"/>
                </a:lnTo>
                <a:lnTo>
                  <a:pt x="304" y="901"/>
                </a:lnTo>
                <a:lnTo>
                  <a:pt x="287" y="879"/>
                </a:lnTo>
                <a:lnTo>
                  <a:pt x="268" y="863"/>
                </a:lnTo>
                <a:lnTo>
                  <a:pt x="250" y="851"/>
                </a:lnTo>
                <a:lnTo>
                  <a:pt x="235" y="842"/>
                </a:lnTo>
                <a:lnTo>
                  <a:pt x="246" y="833"/>
                </a:lnTo>
                <a:lnTo>
                  <a:pt x="267" y="812"/>
                </a:lnTo>
                <a:lnTo>
                  <a:pt x="291" y="780"/>
                </a:lnTo>
                <a:lnTo>
                  <a:pt x="314" y="742"/>
                </a:lnTo>
                <a:lnTo>
                  <a:pt x="333" y="699"/>
                </a:lnTo>
                <a:lnTo>
                  <a:pt x="341" y="656"/>
                </a:lnTo>
                <a:lnTo>
                  <a:pt x="334" y="613"/>
                </a:lnTo>
                <a:lnTo>
                  <a:pt x="307" y="574"/>
                </a:lnTo>
                <a:lnTo>
                  <a:pt x="296" y="569"/>
                </a:lnTo>
                <a:lnTo>
                  <a:pt x="280" y="571"/>
                </a:lnTo>
                <a:lnTo>
                  <a:pt x="260" y="578"/>
                </a:lnTo>
                <a:lnTo>
                  <a:pt x="239" y="588"/>
                </a:lnTo>
                <a:lnTo>
                  <a:pt x="219" y="598"/>
                </a:lnTo>
                <a:lnTo>
                  <a:pt x="201" y="608"/>
                </a:lnTo>
                <a:lnTo>
                  <a:pt x="189" y="615"/>
                </a:lnTo>
                <a:lnTo>
                  <a:pt x="183" y="620"/>
                </a:lnTo>
                <a:lnTo>
                  <a:pt x="177" y="581"/>
                </a:lnTo>
                <a:lnTo>
                  <a:pt x="162" y="544"/>
                </a:lnTo>
                <a:lnTo>
                  <a:pt x="143" y="509"/>
                </a:lnTo>
                <a:lnTo>
                  <a:pt x="117" y="478"/>
                </a:lnTo>
                <a:lnTo>
                  <a:pt x="89" y="450"/>
                </a:lnTo>
                <a:lnTo>
                  <a:pt x="59" y="426"/>
                </a:lnTo>
                <a:lnTo>
                  <a:pt x="29" y="404"/>
                </a:lnTo>
                <a:lnTo>
                  <a:pt x="0" y="386"/>
                </a:lnTo>
                <a:lnTo>
                  <a:pt x="9" y="381"/>
                </a:lnTo>
                <a:lnTo>
                  <a:pt x="19" y="373"/>
                </a:lnTo>
                <a:lnTo>
                  <a:pt x="31" y="365"/>
                </a:lnTo>
                <a:lnTo>
                  <a:pt x="45" y="354"/>
                </a:lnTo>
                <a:lnTo>
                  <a:pt x="60" y="341"/>
                </a:lnTo>
                <a:lnTo>
                  <a:pt x="76" y="327"/>
                </a:lnTo>
                <a:lnTo>
                  <a:pt x="92" y="311"/>
                </a:lnTo>
                <a:lnTo>
                  <a:pt x="108" y="294"/>
                </a:lnTo>
                <a:lnTo>
                  <a:pt x="124" y="275"/>
                </a:lnTo>
                <a:lnTo>
                  <a:pt x="140" y="257"/>
                </a:lnTo>
                <a:lnTo>
                  <a:pt x="157" y="236"/>
                </a:lnTo>
                <a:lnTo>
                  <a:pt x="170" y="216"/>
                </a:lnTo>
                <a:lnTo>
                  <a:pt x="183" y="194"/>
                </a:lnTo>
                <a:lnTo>
                  <a:pt x="195" y="172"/>
                </a:lnTo>
                <a:lnTo>
                  <a:pt x="205" y="150"/>
                </a:lnTo>
                <a:lnTo>
                  <a:pt x="212" y="127"/>
                </a:lnTo>
                <a:lnTo>
                  <a:pt x="229" y="153"/>
                </a:lnTo>
                <a:lnTo>
                  <a:pt x="245" y="176"/>
                </a:lnTo>
                <a:lnTo>
                  <a:pt x="263" y="195"/>
                </a:lnTo>
                <a:lnTo>
                  <a:pt x="280" y="211"/>
                </a:lnTo>
                <a:lnTo>
                  <a:pt x="298" y="224"/>
                </a:lnTo>
                <a:lnTo>
                  <a:pt x="318" y="233"/>
                </a:lnTo>
                <a:lnTo>
                  <a:pt x="340" y="241"/>
                </a:lnTo>
                <a:lnTo>
                  <a:pt x="362" y="247"/>
                </a:lnTo>
                <a:lnTo>
                  <a:pt x="371" y="248"/>
                </a:lnTo>
                <a:lnTo>
                  <a:pt x="380" y="247"/>
                </a:lnTo>
                <a:lnTo>
                  <a:pt x="389" y="244"/>
                </a:lnTo>
                <a:lnTo>
                  <a:pt x="400" y="240"/>
                </a:lnTo>
                <a:lnTo>
                  <a:pt x="410" y="234"/>
                </a:lnTo>
                <a:lnTo>
                  <a:pt x="421" y="226"/>
                </a:lnTo>
                <a:lnTo>
                  <a:pt x="432" y="216"/>
                </a:lnTo>
                <a:lnTo>
                  <a:pt x="443" y="204"/>
                </a:lnTo>
                <a:lnTo>
                  <a:pt x="456" y="159"/>
                </a:lnTo>
                <a:lnTo>
                  <a:pt x="458" y="107"/>
                </a:lnTo>
                <a:lnTo>
                  <a:pt x="454" y="55"/>
                </a:lnTo>
                <a:lnTo>
                  <a:pt x="447" y="11"/>
                </a:lnTo>
                <a:lnTo>
                  <a:pt x="477" y="24"/>
                </a:lnTo>
                <a:lnTo>
                  <a:pt x="502" y="42"/>
                </a:lnTo>
                <a:lnTo>
                  <a:pt x="524" y="61"/>
                </a:lnTo>
                <a:lnTo>
                  <a:pt x="542" y="83"/>
                </a:lnTo>
                <a:lnTo>
                  <a:pt x="559" y="106"/>
                </a:lnTo>
                <a:lnTo>
                  <a:pt x="572" y="129"/>
                </a:lnTo>
                <a:lnTo>
                  <a:pt x="585" y="152"/>
                </a:lnTo>
                <a:lnTo>
                  <a:pt x="595" y="173"/>
                </a:lnTo>
                <a:lnTo>
                  <a:pt x="602" y="188"/>
                </a:lnTo>
                <a:lnTo>
                  <a:pt x="610" y="202"/>
                </a:lnTo>
                <a:lnTo>
                  <a:pt x="617" y="212"/>
                </a:lnTo>
                <a:lnTo>
                  <a:pt x="623" y="220"/>
                </a:lnTo>
                <a:lnTo>
                  <a:pt x="630" y="226"/>
                </a:lnTo>
                <a:lnTo>
                  <a:pt x="638" y="228"/>
                </a:lnTo>
                <a:lnTo>
                  <a:pt x="646" y="226"/>
                </a:lnTo>
                <a:lnTo>
                  <a:pt x="654" y="220"/>
                </a:lnTo>
                <a:lnTo>
                  <a:pt x="656" y="216"/>
                </a:lnTo>
                <a:lnTo>
                  <a:pt x="661" y="204"/>
                </a:lnTo>
                <a:lnTo>
                  <a:pt x="668" y="188"/>
                </a:lnTo>
                <a:lnTo>
                  <a:pt x="677" y="166"/>
                </a:lnTo>
                <a:lnTo>
                  <a:pt x="685" y="143"/>
                </a:lnTo>
                <a:lnTo>
                  <a:pt x="693" y="119"/>
                </a:lnTo>
                <a:lnTo>
                  <a:pt x="700" y="95"/>
                </a:lnTo>
                <a:lnTo>
                  <a:pt x="704" y="74"/>
                </a:lnTo>
                <a:lnTo>
                  <a:pt x="704" y="57"/>
                </a:lnTo>
                <a:lnTo>
                  <a:pt x="704" y="36"/>
                </a:lnTo>
                <a:lnTo>
                  <a:pt x="704" y="16"/>
                </a:lnTo>
                <a:lnTo>
                  <a:pt x="703" y="0"/>
                </a:lnTo>
                <a:lnTo>
                  <a:pt x="74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reeform 7"/>
          <p:cNvSpPr/>
          <p:nvPr/>
        </p:nvSpPr>
        <p:spPr>
          <a:xfrm>
            <a:off x="7819920" y="2181240"/>
            <a:ext cx="131760" cy="117360"/>
          </a:xfrm>
          <a:custGeom>
            <a:avLst/>
            <a:gdLst>
              <a:gd name="textAreaLeft" fmla="*/ 0 w 131760"/>
              <a:gd name="textAreaRight" fmla="*/ 132120 w 1317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66" h="148">
                <a:moveTo>
                  <a:pt x="70" y="129"/>
                </a:moveTo>
                <a:lnTo>
                  <a:pt x="68" y="113"/>
                </a:lnTo>
                <a:lnTo>
                  <a:pt x="66" y="94"/>
                </a:lnTo>
                <a:lnTo>
                  <a:pt x="64" y="77"/>
                </a:lnTo>
                <a:lnTo>
                  <a:pt x="60" y="66"/>
                </a:lnTo>
                <a:lnTo>
                  <a:pt x="63" y="63"/>
                </a:lnTo>
                <a:lnTo>
                  <a:pt x="68" y="56"/>
                </a:lnTo>
                <a:lnTo>
                  <a:pt x="78" y="48"/>
                </a:lnTo>
                <a:lnTo>
                  <a:pt x="88" y="40"/>
                </a:lnTo>
                <a:lnTo>
                  <a:pt x="101" y="34"/>
                </a:lnTo>
                <a:lnTo>
                  <a:pt x="112" y="31"/>
                </a:lnTo>
                <a:lnTo>
                  <a:pt x="124" y="33"/>
                </a:lnTo>
                <a:lnTo>
                  <a:pt x="134" y="41"/>
                </a:lnTo>
                <a:lnTo>
                  <a:pt x="134" y="52"/>
                </a:lnTo>
                <a:lnTo>
                  <a:pt x="132" y="75"/>
                </a:lnTo>
                <a:lnTo>
                  <a:pt x="126" y="106"/>
                </a:lnTo>
                <a:lnTo>
                  <a:pt x="119" y="140"/>
                </a:lnTo>
                <a:lnTo>
                  <a:pt x="154" y="148"/>
                </a:lnTo>
                <a:lnTo>
                  <a:pt x="157" y="127"/>
                </a:lnTo>
                <a:lnTo>
                  <a:pt x="161" y="100"/>
                </a:lnTo>
                <a:lnTo>
                  <a:pt x="163" y="72"/>
                </a:lnTo>
                <a:lnTo>
                  <a:pt x="165" y="48"/>
                </a:lnTo>
                <a:lnTo>
                  <a:pt x="166" y="36"/>
                </a:lnTo>
                <a:lnTo>
                  <a:pt x="163" y="24"/>
                </a:lnTo>
                <a:lnTo>
                  <a:pt x="158" y="15"/>
                </a:lnTo>
                <a:lnTo>
                  <a:pt x="150" y="8"/>
                </a:lnTo>
                <a:lnTo>
                  <a:pt x="146" y="6"/>
                </a:lnTo>
                <a:lnTo>
                  <a:pt x="140" y="3"/>
                </a:lnTo>
                <a:lnTo>
                  <a:pt x="134" y="1"/>
                </a:lnTo>
                <a:lnTo>
                  <a:pt x="127" y="0"/>
                </a:lnTo>
                <a:lnTo>
                  <a:pt x="120" y="0"/>
                </a:lnTo>
                <a:lnTo>
                  <a:pt x="114" y="1"/>
                </a:lnTo>
                <a:lnTo>
                  <a:pt x="106" y="1"/>
                </a:lnTo>
                <a:lnTo>
                  <a:pt x="99" y="3"/>
                </a:lnTo>
                <a:lnTo>
                  <a:pt x="76" y="11"/>
                </a:lnTo>
                <a:lnTo>
                  <a:pt x="57" y="18"/>
                </a:lnTo>
                <a:lnTo>
                  <a:pt x="40" y="26"/>
                </a:lnTo>
                <a:lnTo>
                  <a:pt x="26" y="33"/>
                </a:lnTo>
                <a:lnTo>
                  <a:pt x="14" y="40"/>
                </a:lnTo>
                <a:lnTo>
                  <a:pt x="6" y="45"/>
                </a:lnTo>
                <a:lnTo>
                  <a:pt x="2" y="48"/>
                </a:lnTo>
                <a:lnTo>
                  <a:pt x="0" y="49"/>
                </a:lnTo>
                <a:lnTo>
                  <a:pt x="4" y="56"/>
                </a:lnTo>
                <a:lnTo>
                  <a:pt x="12" y="74"/>
                </a:lnTo>
                <a:lnTo>
                  <a:pt x="22" y="98"/>
                </a:lnTo>
                <a:lnTo>
                  <a:pt x="32" y="123"/>
                </a:lnTo>
                <a:lnTo>
                  <a:pt x="70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Freeform 8"/>
          <p:cNvSpPr/>
          <p:nvPr/>
        </p:nvSpPr>
        <p:spPr>
          <a:xfrm>
            <a:off x="7839000" y="2292480"/>
            <a:ext cx="103320" cy="185760"/>
          </a:xfrm>
          <a:custGeom>
            <a:avLst/>
            <a:gdLst>
              <a:gd name="textAreaLeft" fmla="*/ 0 w 103320"/>
              <a:gd name="textAreaRight" fmla="*/ 103680 w 1033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31" h="233">
                <a:moveTo>
                  <a:pt x="131" y="8"/>
                </a:moveTo>
                <a:lnTo>
                  <a:pt x="113" y="58"/>
                </a:lnTo>
                <a:lnTo>
                  <a:pt x="93" y="103"/>
                </a:lnTo>
                <a:lnTo>
                  <a:pt x="71" y="141"/>
                </a:lnTo>
                <a:lnTo>
                  <a:pt x="50" y="173"/>
                </a:lnTo>
                <a:lnTo>
                  <a:pt x="30" y="199"/>
                </a:lnTo>
                <a:lnTo>
                  <a:pt x="15" y="218"/>
                </a:lnTo>
                <a:lnTo>
                  <a:pt x="4" y="230"/>
                </a:lnTo>
                <a:lnTo>
                  <a:pt x="0" y="233"/>
                </a:lnTo>
                <a:lnTo>
                  <a:pt x="18" y="202"/>
                </a:lnTo>
                <a:lnTo>
                  <a:pt x="33" y="170"/>
                </a:lnTo>
                <a:lnTo>
                  <a:pt x="48" y="139"/>
                </a:lnTo>
                <a:lnTo>
                  <a:pt x="60" y="108"/>
                </a:lnTo>
                <a:lnTo>
                  <a:pt x="71" y="78"/>
                </a:lnTo>
                <a:lnTo>
                  <a:pt x="81" y="49"/>
                </a:lnTo>
                <a:lnTo>
                  <a:pt x="89" y="23"/>
                </a:lnTo>
                <a:lnTo>
                  <a:pt x="96" y="0"/>
                </a:lnTo>
                <a:lnTo>
                  <a:pt x="13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reeform 9"/>
          <p:cNvSpPr/>
          <p:nvPr/>
        </p:nvSpPr>
        <p:spPr>
          <a:xfrm>
            <a:off x="7602480" y="2509920"/>
            <a:ext cx="387360" cy="487440"/>
          </a:xfrm>
          <a:custGeom>
            <a:avLst/>
            <a:gdLst>
              <a:gd name="textAreaLeft" fmla="*/ 0 w 387360"/>
              <a:gd name="textAreaRight" fmla="*/ 387720 w 3873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88" h="615">
                <a:moveTo>
                  <a:pt x="329" y="287"/>
                </a:moveTo>
                <a:lnTo>
                  <a:pt x="349" y="306"/>
                </a:lnTo>
                <a:lnTo>
                  <a:pt x="369" y="323"/>
                </a:lnTo>
                <a:lnTo>
                  <a:pt x="386" y="339"/>
                </a:lnTo>
                <a:lnTo>
                  <a:pt x="401" y="355"/>
                </a:lnTo>
                <a:lnTo>
                  <a:pt x="415" y="369"/>
                </a:lnTo>
                <a:lnTo>
                  <a:pt x="428" y="383"/>
                </a:lnTo>
                <a:lnTo>
                  <a:pt x="439" y="394"/>
                </a:lnTo>
                <a:lnTo>
                  <a:pt x="448" y="406"/>
                </a:lnTo>
                <a:lnTo>
                  <a:pt x="462" y="423"/>
                </a:lnTo>
                <a:lnTo>
                  <a:pt x="471" y="438"/>
                </a:lnTo>
                <a:lnTo>
                  <a:pt x="478" y="451"/>
                </a:lnTo>
                <a:lnTo>
                  <a:pt x="483" y="461"/>
                </a:lnTo>
                <a:lnTo>
                  <a:pt x="485" y="469"/>
                </a:lnTo>
                <a:lnTo>
                  <a:pt x="488" y="474"/>
                </a:lnTo>
                <a:lnTo>
                  <a:pt x="488" y="477"/>
                </a:lnTo>
                <a:lnTo>
                  <a:pt x="488" y="478"/>
                </a:lnTo>
                <a:lnTo>
                  <a:pt x="473" y="455"/>
                </a:lnTo>
                <a:lnTo>
                  <a:pt x="455" y="433"/>
                </a:lnTo>
                <a:lnTo>
                  <a:pt x="437" y="413"/>
                </a:lnTo>
                <a:lnTo>
                  <a:pt x="417" y="392"/>
                </a:lnTo>
                <a:lnTo>
                  <a:pt x="398" y="374"/>
                </a:lnTo>
                <a:lnTo>
                  <a:pt x="376" y="355"/>
                </a:lnTo>
                <a:lnTo>
                  <a:pt x="355" y="338"/>
                </a:lnTo>
                <a:lnTo>
                  <a:pt x="333" y="321"/>
                </a:lnTo>
                <a:lnTo>
                  <a:pt x="312" y="301"/>
                </a:lnTo>
                <a:lnTo>
                  <a:pt x="295" y="283"/>
                </a:lnTo>
                <a:lnTo>
                  <a:pt x="281" y="264"/>
                </a:lnTo>
                <a:lnTo>
                  <a:pt x="270" y="246"/>
                </a:lnTo>
                <a:lnTo>
                  <a:pt x="262" y="227"/>
                </a:lnTo>
                <a:lnTo>
                  <a:pt x="256" y="210"/>
                </a:lnTo>
                <a:lnTo>
                  <a:pt x="251" y="192"/>
                </a:lnTo>
                <a:lnTo>
                  <a:pt x="248" y="173"/>
                </a:lnTo>
                <a:lnTo>
                  <a:pt x="238" y="198"/>
                </a:lnTo>
                <a:lnTo>
                  <a:pt x="227" y="222"/>
                </a:lnTo>
                <a:lnTo>
                  <a:pt x="217" y="243"/>
                </a:lnTo>
                <a:lnTo>
                  <a:pt x="206" y="263"/>
                </a:lnTo>
                <a:lnTo>
                  <a:pt x="197" y="279"/>
                </a:lnTo>
                <a:lnTo>
                  <a:pt x="189" y="293"/>
                </a:lnTo>
                <a:lnTo>
                  <a:pt x="183" y="303"/>
                </a:lnTo>
                <a:lnTo>
                  <a:pt x="179" y="309"/>
                </a:lnTo>
                <a:lnTo>
                  <a:pt x="137" y="362"/>
                </a:lnTo>
                <a:lnTo>
                  <a:pt x="102" y="416"/>
                </a:lnTo>
                <a:lnTo>
                  <a:pt x="72" y="467"/>
                </a:lnTo>
                <a:lnTo>
                  <a:pt x="46" y="514"/>
                </a:lnTo>
                <a:lnTo>
                  <a:pt x="26" y="556"/>
                </a:lnTo>
                <a:lnTo>
                  <a:pt x="12" y="587"/>
                </a:lnTo>
                <a:lnTo>
                  <a:pt x="4" y="609"/>
                </a:lnTo>
                <a:lnTo>
                  <a:pt x="0" y="615"/>
                </a:lnTo>
                <a:lnTo>
                  <a:pt x="11" y="573"/>
                </a:lnTo>
                <a:lnTo>
                  <a:pt x="22" y="534"/>
                </a:lnTo>
                <a:lnTo>
                  <a:pt x="34" y="498"/>
                </a:lnTo>
                <a:lnTo>
                  <a:pt x="49" y="463"/>
                </a:lnTo>
                <a:lnTo>
                  <a:pt x="65" y="430"/>
                </a:lnTo>
                <a:lnTo>
                  <a:pt x="84" y="395"/>
                </a:lnTo>
                <a:lnTo>
                  <a:pt x="109" y="361"/>
                </a:lnTo>
                <a:lnTo>
                  <a:pt x="137" y="323"/>
                </a:lnTo>
                <a:lnTo>
                  <a:pt x="162" y="288"/>
                </a:lnTo>
                <a:lnTo>
                  <a:pt x="185" y="246"/>
                </a:lnTo>
                <a:lnTo>
                  <a:pt x="205" y="200"/>
                </a:lnTo>
                <a:lnTo>
                  <a:pt x="223" y="152"/>
                </a:lnTo>
                <a:lnTo>
                  <a:pt x="238" y="109"/>
                </a:lnTo>
                <a:lnTo>
                  <a:pt x="248" y="69"/>
                </a:lnTo>
                <a:lnTo>
                  <a:pt x="254" y="40"/>
                </a:lnTo>
                <a:lnTo>
                  <a:pt x="253" y="21"/>
                </a:lnTo>
                <a:lnTo>
                  <a:pt x="284" y="0"/>
                </a:lnTo>
                <a:lnTo>
                  <a:pt x="285" y="23"/>
                </a:lnTo>
                <a:lnTo>
                  <a:pt x="284" y="48"/>
                </a:lnTo>
                <a:lnTo>
                  <a:pt x="279" y="73"/>
                </a:lnTo>
                <a:lnTo>
                  <a:pt x="273" y="98"/>
                </a:lnTo>
                <a:lnTo>
                  <a:pt x="273" y="125"/>
                </a:lnTo>
                <a:lnTo>
                  <a:pt x="274" y="150"/>
                </a:lnTo>
                <a:lnTo>
                  <a:pt x="277" y="175"/>
                </a:lnTo>
                <a:lnTo>
                  <a:pt x="282" y="200"/>
                </a:lnTo>
                <a:lnTo>
                  <a:pt x="289" y="224"/>
                </a:lnTo>
                <a:lnTo>
                  <a:pt x="300" y="247"/>
                </a:lnTo>
                <a:lnTo>
                  <a:pt x="312" y="268"/>
                </a:lnTo>
                <a:lnTo>
                  <a:pt x="329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reeform 10"/>
          <p:cNvSpPr/>
          <p:nvPr/>
        </p:nvSpPr>
        <p:spPr>
          <a:xfrm>
            <a:off x="7399440" y="2475000"/>
            <a:ext cx="371520" cy="158760"/>
          </a:xfrm>
          <a:custGeom>
            <a:avLst/>
            <a:gdLst>
              <a:gd name="textAreaLeft" fmla="*/ 0 w 371520"/>
              <a:gd name="textAreaRight" fmla="*/ 371880 w 37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8" h="199">
                <a:moveTo>
                  <a:pt x="442" y="116"/>
                </a:moveTo>
                <a:lnTo>
                  <a:pt x="448" y="111"/>
                </a:lnTo>
                <a:lnTo>
                  <a:pt x="455" y="107"/>
                </a:lnTo>
                <a:lnTo>
                  <a:pt x="462" y="102"/>
                </a:lnTo>
                <a:lnTo>
                  <a:pt x="468" y="98"/>
                </a:lnTo>
                <a:lnTo>
                  <a:pt x="448" y="147"/>
                </a:lnTo>
                <a:lnTo>
                  <a:pt x="436" y="154"/>
                </a:lnTo>
                <a:lnTo>
                  <a:pt x="423" y="161"/>
                </a:lnTo>
                <a:lnTo>
                  <a:pt x="410" y="168"/>
                </a:lnTo>
                <a:lnTo>
                  <a:pt x="398" y="175"/>
                </a:lnTo>
                <a:lnTo>
                  <a:pt x="385" y="181"/>
                </a:lnTo>
                <a:lnTo>
                  <a:pt x="374" y="185"/>
                </a:lnTo>
                <a:lnTo>
                  <a:pt x="361" y="190"/>
                </a:lnTo>
                <a:lnTo>
                  <a:pt x="348" y="193"/>
                </a:lnTo>
                <a:lnTo>
                  <a:pt x="334" y="197"/>
                </a:lnTo>
                <a:lnTo>
                  <a:pt x="321" y="198"/>
                </a:lnTo>
                <a:lnTo>
                  <a:pt x="306" y="199"/>
                </a:lnTo>
                <a:lnTo>
                  <a:pt x="290" y="199"/>
                </a:lnTo>
                <a:lnTo>
                  <a:pt x="273" y="197"/>
                </a:lnTo>
                <a:lnTo>
                  <a:pt x="255" y="194"/>
                </a:lnTo>
                <a:lnTo>
                  <a:pt x="237" y="190"/>
                </a:lnTo>
                <a:lnTo>
                  <a:pt x="216" y="184"/>
                </a:lnTo>
                <a:lnTo>
                  <a:pt x="203" y="179"/>
                </a:lnTo>
                <a:lnTo>
                  <a:pt x="189" y="175"/>
                </a:lnTo>
                <a:lnTo>
                  <a:pt x="177" y="170"/>
                </a:lnTo>
                <a:lnTo>
                  <a:pt x="163" y="166"/>
                </a:lnTo>
                <a:lnTo>
                  <a:pt x="150" y="161"/>
                </a:lnTo>
                <a:lnTo>
                  <a:pt x="136" y="158"/>
                </a:lnTo>
                <a:lnTo>
                  <a:pt x="124" y="153"/>
                </a:lnTo>
                <a:lnTo>
                  <a:pt x="110" y="150"/>
                </a:lnTo>
                <a:lnTo>
                  <a:pt x="96" y="146"/>
                </a:lnTo>
                <a:lnTo>
                  <a:pt x="83" y="143"/>
                </a:lnTo>
                <a:lnTo>
                  <a:pt x="70" y="140"/>
                </a:lnTo>
                <a:lnTo>
                  <a:pt x="56" y="138"/>
                </a:lnTo>
                <a:lnTo>
                  <a:pt x="42" y="136"/>
                </a:lnTo>
                <a:lnTo>
                  <a:pt x="28" y="135"/>
                </a:lnTo>
                <a:lnTo>
                  <a:pt x="14" y="133"/>
                </a:lnTo>
                <a:lnTo>
                  <a:pt x="0" y="133"/>
                </a:lnTo>
                <a:lnTo>
                  <a:pt x="2" y="133"/>
                </a:lnTo>
                <a:lnTo>
                  <a:pt x="4" y="132"/>
                </a:lnTo>
                <a:lnTo>
                  <a:pt x="7" y="131"/>
                </a:lnTo>
                <a:lnTo>
                  <a:pt x="13" y="130"/>
                </a:lnTo>
                <a:lnTo>
                  <a:pt x="20" y="129"/>
                </a:lnTo>
                <a:lnTo>
                  <a:pt x="29" y="129"/>
                </a:lnTo>
                <a:lnTo>
                  <a:pt x="41" y="128"/>
                </a:lnTo>
                <a:lnTo>
                  <a:pt x="55" y="128"/>
                </a:lnTo>
                <a:lnTo>
                  <a:pt x="70" y="129"/>
                </a:lnTo>
                <a:lnTo>
                  <a:pt x="88" y="130"/>
                </a:lnTo>
                <a:lnTo>
                  <a:pt x="109" y="133"/>
                </a:lnTo>
                <a:lnTo>
                  <a:pt x="132" y="137"/>
                </a:lnTo>
                <a:lnTo>
                  <a:pt x="157" y="143"/>
                </a:lnTo>
                <a:lnTo>
                  <a:pt x="186" y="150"/>
                </a:lnTo>
                <a:lnTo>
                  <a:pt x="218" y="159"/>
                </a:lnTo>
                <a:lnTo>
                  <a:pt x="253" y="169"/>
                </a:lnTo>
                <a:lnTo>
                  <a:pt x="273" y="173"/>
                </a:lnTo>
                <a:lnTo>
                  <a:pt x="293" y="173"/>
                </a:lnTo>
                <a:lnTo>
                  <a:pt x="313" y="171"/>
                </a:lnTo>
                <a:lnTo>
                  <a:pt x="332" y="168"/>
                </a:lnTo>
                <a:lnTo>
                  <a:pt x="352" y="162"/>
                </a:lnTo>
                <a:lnTo>
                  <a:pt x="371" y="155"/>
                </a:lnTo>
                <a:lnTo>
                  <a:pt x="390" y="147"/>
                </a:lnTo>
                <a:lnTo>
                  <a:pt x="408" y="137"/>
                </a:lnTo>
                <a:lnTo>
                  <a:pt x="399" y="132"/>
                </a:lnTo>
                <a:lnTo>
                  <a:pt x="391" y="126"/>
                </a:lnTo>
                <a:lnTo>
                  <a:pt x="384" y="120"/>
                </a:lnTo>
                <a:lnTo>
                  <a:pt x="377" y="113"/>
                </a:lnTo>
                <a:lnTo>
                  <a:pt x="371" y="105"/>
                </a:lnTo>
                <a:lnTo>
                  <a:pt x="367" y="95"/>
                </a:lnTo>
                <a:lnTo>
                  <a:pt x="362" y="85"/>
                </a:lnTo>
                <a:lnTo>
                  <a:pt x="359" y="75"/>
                </a:lnTo>
                <a:lnTo>
                  <a:pt x="358" y="50"/>
                </a:lnTo>
                <a:lnTo>
                  <a:pt x="364" y="26"/>
                </a:lnTo>
                <a:lnTo>
                  <a:pt x="372" y="7"/>
                </a:lnTo>
                <a:lnTo>
                  <a:pt x="376" y="0"/>
                </a:lnTo>
                <a:lnTo>
                  <a:pt x="375" y="7"/>
                </a:lnTo>
                <a:lnTo>
                  <a:pt x="372" y="19"/>
                </a:lnTo>
                <a:lnTo>
                  <a:pt x="372" y="35"/>
                </a:lnTo>
                <a:lnTo>
                  <a:pt x="376" y="54"/>
                </a:lnTo>
                <a:lnTo>
                  <a:pt x="383" y="72"/>
                </a:lnTo>
                <a:lnTo>
                  <a:pt x="394" y="91"/>
                </a:lnTo>
                <a:lnTo>
                  <a:pt x="414" y="106"/>
                </a:lnTo>
                <a:lnTo>
                  <a:pt x="442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Freeform 11"/>
          <p:cNvSpPr/>
          <p:nvPr/>
        </p:nvSpPr>
        <p:spPr>
          <a:xfrm>
            <a:off x="6553080" y="2549520"/>
            <a:ext cx="111240" cy="130320"/>
          </a:xfrm>
          <a:custGeom>
            <a:avLst/>
            <a:gdLst>
              <a:gd name="textAreaLeft" fmla="*/ 0 w 111240"/>
              <a:gd name="textAreaRight" fmla="*/ 111600 w 111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39" h="164">
                <a:moveTo>
                  <a:pt x="129" y="55"/>
                </a:moveTo>
                <a:lnTo>
                  <a:pt x="107" y="58"/>
                </a:lnTo>
                <a:lnTo>
                  <a:pt x="86" y="65"/>
                </a:lnTo>
                <a:lnTo>
                  <a:pt x="68" y="75"/>
                </a:lnTo>
                <a:lnTo>
                  <a:pt x="51" y="89"/>
                </a:lnTo>
                <a:lnTo>
                  <a:pt x="36" y="105"/>
                </a:lnTo>
                <a:lnTo>
                  <a:pt x="22" y="123"/>
                </a:lnTo>
                <a:lnTo>
                  <a:pt x="10" y="143"/>
                </a:lnTo>
                <a:lnTo>
                  <a:pt x="0" y="164"/>
                </a:lnTo>
                <a:lnTo>
                  <a:pt x="7" y="93"/>
                </a:lnTo>
                <a:lnTo>
                  <a:pt x="22" y="68"/>
                </a:lnTo>
                <a:lnTo>
                  <a:pt x="38" y="48"/>
                </a:lnTo>
                <a:lnTo>
                  <a:pt x="53" y="33"/>
                </a:lnTo>
                <a:lnTo>
                  <a:pt x="68" y="21"/>
                </a:lnTo>
                <a:lnTo>
                  <a:pt x="84" y="13"/>
                </a:lnTo>
                <a:lnTo>
                  <a:pt x="101" y="7"/>
                </a:lnTo>
                <a:lnTo>
                  <a:pt x="120" y="2"/>
                </a:lnTo>
                <a:lnTo>
                  <a:pt x="139" y="0"/>
                </a:lnTo>
                <a:lnTo>
                  <a:pt x="1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reeform 12"/>
          <p:cNvSpPr/>
          <p:nvPr/>
        </p:nvSpPr>
        <p:spPr>
          <a:xfrm>
            <a:off x="6629400" y="2590920"/>
            <a:ext cx="826920" cy="961920"/>
          </a:xfrm>
          <a:custGeom>
            <a:avLst/>
            <a:gdLst>
              <a:gd name="textAreaLeft" fmla="*/ 0 w 826920"/>
              <a:gd name="textAreaRight" fmla="*/ 827280 w 82692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044" h="1213">
                <a:moveTo>
                  <a:pt x="840" y="1213"/>
                </a:moveTo>
                <a:lnTo>
                  <a:pt x="833" y="1189"/>
                </a:lnTo>
                <a:lnTo>
                  <a:pt x="826" y="1165"/>
                </a:lnTo>
                <a:lnTo>
                  <a:pt x="819" y="1143"/>
                </a:lnTo>
                <a:lnTo>
                  <a:pt x="812" y="1123"/>
                </a:lnTo>
                <a:lnTo>
                  <a:pt x="806" y="1106"/>
                </a:lnTo>
                <a:lnTo>
                  <a:pt x="802" y="1093"/>
                </a:lnTo>
                <a:lnTo>
                  <a:pt x="798" y="1085"/>
                </a:lnTo>
                <a:lnTo>
                  <a:pt x="797" y="1082"/>
                </a:lnTo>
                <a:lnTo>
                  <a:pt x="813" y="1085"/>
                </a:lnTo>
                <a:lnTo>
                  <a:pt x="829" y="1087"/>
                </a:lnTo>
                <a:lnTo>
                  <a:pt x="845" y="1089"/>
                </a:lnTo>
                <a:lnTo>
                  <a:pt x="862" y="1090"/>
                </a:lnTo>
                <a:lnTo>
                  <a:pt x="878" y="1089"/>
                </a:lnTo>
                <a:lnTo>
                  <a:pt x="893" y="1087"/>
                </a:lnTo>
                <a:lnTo>
                  <a:pt x="908" y="1084"/>
                </a:lnTo>
                <a:lnTo>
                  <a:pt x="921" y="1080"/>
                </a:lnTo>
                <a:lnTo>
                  <a:pt x="935" y="1075"/>
                </a:lnTo>
                <a:lnTo>
                  <a:pt x="948" y="1069"/>
                </a:lnTo>
                <a:lnTo>
                  <a:pt x="958" y="1061"/>
                </a:lnTo>
                <a:lnTo>
                  <a:pt x="969" y="1052"/>
                </a:lnTo>
                <a:lnTo>
                  <a:pt x="977" y="1041"/>
                </a:lnTo>
                <a:lnTo>
                  <a:pt x="983" y="1029"/>
                </a:lnTo>
                <a:lnTo>
                  <a:pt x="988" y="1016"/>
                </a:lnTo>
                <a:lnTo>
                  <a:pt x="991" y="1001"/>
                </a:lnTo>
                <a:lnTo>
                  <a:pt x="995" y="976"/>
                </a:lnTo>
                <a:lnTo>
                  <a:pt x="996" y="953"/>
                </a:lnTo>
                <a:lnTo>
                  <a:pt x="994" y="932"/>
                </a:lnTo>
                <a:lnTo>
                  <a:pt x="988" y="911"/>
                </a:lnTo>
                <a:lnTo>
                  <a:pt x="979" y="892"/>
                </a:lnTo>
                <a:lnTo>
                  <a:pt x="965" y="872"/>
                </a:lnTo>
                <a:lnTo>
                  <a:pt x="947" y="854"/>
                </a:lnTo>
                <a:lnTo>
                  <a:pt x="923" y="833"/>
                </a:lnTo>
                <a:lnTo>
                  <a:pt x="903" y="818"/>
                </a:lnTo>
                <a:lnTo>
                  <a:pt x="880" y="801"/>
                </a:lnTo>
                <a:lnTo>
                  <a:pt x="856" y="783"/>
                </a:lnTo>
                <a:lnTo>
                  <a:pt x="830" y="765"/>
                </a:lnTo>
                <a:lnTo>
                  <a:pt x="809" y="749"/>
                </a:lnTo>
                <a:lnTo>
                  <a:pt x="790" y="735"/>
                </a:lnTo>
                <a:lnTo>
                  <a:pt x="779" y="726"/>
                </a:lnTo>
                <a:lnTo>
                  <a:pt x="775" y="722"/>
                </a:lnTo>
                <a:lnTo>
                  <a:pt x="790" y="712"/>
                </a:lnTo>
                <a:lnTo>
                  <a:pt x="806" y="700"/>
                </a:lnTo>
                <a:lnTo>
                  <a:pt x="821" y="688"/>
                </a:lnTo>
                <a:lnTo>
                  <a:pt x="836" y="674"/>
                </a:lnTo>
                <a:lnTo>
                  <a:pt x="850" y="657"/>
                </a:lnTo>
                <a:lnTo>
                  <a:pt x="862" y="638"/>
                </a:lnTo>
                <a:lnTo>
                  <a:pt x="871" y="617"/>
                </a:lnTo>
                <a:lnTo>
                  <a:pt x="878" y="594"/>
                </a:lnTo>
                <a:lnTo>
                  <a:pt x="879" y="569"/>
                </a:lnTo>
                <a:lnTo>
                  <a:pt x="874" y="547"/>
                </a:lnTo>
                <a:lnTo>
                  <a:pt x="866" y="526"/>
                </a:lnTo>
                <a:lnTo>
                  <a:pt x="854" y="508"/>
                </a:lnTo>
                <a:lnTo>
                  <a:pt x="837" y="492"/>
                </a:lnTo>
                <a:lnTo>
                  <a:pt x="819" y="479"/>
                </a:lnTo>
                <a:lnTo>
                  <a:pt x="798" y="469"/>
                </a:lnTo>
                <a:lnTo>
                  <a:pt x="776" y="461"/>
                </a:lnTo>
                <a:lnTo>
                  <a:pt x="764" y="458"/>
                </a:lnTo>
                <a:lnTo>
                  <a:pt x="752" y="456"/>
                </a:lnTo>
                <a:lnTo>
                  <a:pt x="739" y="455"/>
                </a:lnTo>
                <a:lnTo>
                  <a:pt x="728" y="455"/>
                </a:lnTo>
                <a:lnTo>
                  <a:pt x="715" y="455"/>
                </a:lnTo>
                <a:lnTo>
                  <a:pt x="704" y="456"/>
                </a:lnTo>
                <a:lnTo>
                  <a:pt x="692" y="457"/>
                </a:lnTo>
                <a:lnTo>
                  <a:pt x="681" y="460"/>
                </a:lnTo>
                <a:lnTo>
                  <a:pt x="668" y="463"/>
                </a:lnTo>
                <a:lnTo>
                  <a:pt x="657" y="467"/>
                </a:lnTo>
                <a:lnTo>
                  <a:pt x="646" y="470"/>
                </a:lnTo>
                <a:lnTo>
                  <a:pt x="635" y="475"/>
                </a:lnTo>
                <a:lnTo>
                  <a:pt x="623" y="479"/>
                </a:lnTo>
                <a:lnTo>
                  <a:pt x="613" y="484"/>
                </a:lnTo>
                <a:lnTo>
                  <a:pt x="601" y="488"/>
                </a:lnTo>
                <a:lnTo>
                  <a:pt x="591" y="494"/>
                </a:lnTo>
                <a:lnTo>
                  <a:pt x="585" y="452"/>
                </a:lnTo>
                <a:lnTo>
                  <a:pt x="584" y="402"/>
                </a:lnTo>
                <a:lnTo>
                  <a:pt x="584" y="349"/>
                </a:lnTo>
                <a:lnTo>
                  <a:pt x="583" y="298"/>
                </a:lnTo>
                <a:lnTo>
                  <a:pt x="577" y="251"/>
                </a:lnTo>
                <a:lnTo>
                  <a:pt x="563" y="212"/>
                </a:lnTo>
                <a:lnTo>
                  <a:pt x="540" y="184"/>
                </a:lnTo>
                <a:lnTo>
                  <a:pt x="503" y="173"/>
                </a:lnTo>
                <a:lnTo>
                  <a:pt x="471" y="173"/>
                </a:lnTo>
                <a:lnTo>
                  <a:pt x="445" y="177"/>
                </a:lnTo>
                <a:lnTo>
                  <a:pt x="424" y="187"/>
                </a:lnTo>
                <a:lnTo>
                  <a:pt x="408" y="198"/>
                </a:lnTo>
                <a:lnTo>
                  <a:pt x="396" y="211"/>
                </a:lnTo>
                <a:lnTo>
                  <a:pt x="387" y="226"/>
                </a:lnTo>
                <a:lnTo>
                  <a:pt x="379" y="241"/>
                </a:lnTo>
                <a:lnTo>
                  <a:pt x="373" y="256"/>
                </a:lnTo>
                <a:lnTo>
                  <a:pt x="381" y="270"/>
                </a:lnTo>
                <a:lnTo>
                  <a:pt x="389" y="283"/>
                </a:lnTo>
                <a:lnTo>
                  <a:pt x="397" y="297"/>
                </a:lnTo>
                <a:lnTo>
                  <a:pt x="405" y="311"/>
                </a:lnTo>
                <a:lnTo>
                  <a:pt x="412" y="326"/>
                </a:lnTo>
                <a:lnTo>
                  <a:pt x="419" y="341"/>
                </a:lnTo>
                <a:lnTo>
                  <a:pt x="426" y="356"/>
                </a:lnTo>
                <a:lnTo>
                  <a:pt x="432" y="371"/>
                </a:lnTo>
                <a:lnTo>
                  <a:pt x="440" y="391"/>
                </a:lnTo>
                <a:lnTo>
                  <a:pt x="448" y="410"/>
                </a:lnTo>
                <a:lnTo>
                  <a:pt x="455" y="430"/>
                </a:lnTo>
                <a:lnTo>
                  <a:pt x="463" y="448"/>
                </a:lnTo>
                <a:lnTo>
                  <a:pt x="471" y="468"/>
                </a:lnTo>
                <a:lnTo>
                  <a:pt x="479" y="487"/>
                </a:lnTo>
                <a:lnTo>
                  <a:pt x="487" y="506"/>
                </a:lnTo>
                <a:lnTo>
                  <a:pt x="495" y="525"/>
                </a:lnTo>
                <a:lnTo>
                  <a:pt x="507" y="538"/>
                </a:lnTo>
                <a:lnTo>
                  <a:pt x="517" y="551"/>
                </a:lnTo>
                <a:lnTo>
                  <a:pt x="530" y="562"/>
                </a:lnTo>
                <a:lnTo>
                  <a:pt x="543" y="574"/>
                </a:lnTo>
                <a:lnTo>
                  <a:pt x="556" y="584"/>
                </a:lnTo>
                <a:lnTo>
                  <a:pt x="570" y="593"/>
                </a:lnTo>
                <a:lnTo>
                  <a:pt x="586" y="600"/>
                </a:lnTo>
                <a:lnTo>
                  <a:pt x="602" y="605"/>
                </a:lnTo>
                <a:lnTo>
                  <a:pt x="617" y="607"/>
                </a:lnTo>
                <a:lnTo>
                  <a:pt x="632" y="607"/>
                </a:lnTo>
                <a:lnTo>
                  <a:pt x="646" y="607"/>
                </a:lnTo>
                <a:lnTo>
                  <a:pt x="660" y="607"/>
                </a:lnTo>
                <a:lnTo>
                  <a:pt x="674" y="605"/>
                </a:lnTo>
                <a:lnTo>
                  <a:pt x="688" y="604"/>
                </a:lnTo>
                <a:lnTo>
                  <a:pt x="701" y="601"/>
                </a:lnTo>
                <a:lnTo>
                  <a:pt x="715" y="599"/>
                </a:lnTo>
                <a:lnTo>
                  <a:pt x="713" y="601"/>
                </a:lnTo>
                <a:lnTo>
                  <a:pt x="705" y="607"/>
                </a:lnTo>
                <a:lnTo>
                  <a:pt x="692" y="614"/>
                </a:lnTo>
                <a:lnTo>
                  <a:pt x="673" y="621"/>
                </a:lnTo>
                <a:lnTo>
                  <a:pt x="647" y="627"/>
                </a:lnTo>
                <a:lnTo>
                  <a:pt x="616" y="629"/>
                </a:lnTo>
                <a:lnTo>
                  <a:pt x="578" y="625"/>
                </a:lnTo>
                <a:lnTo>
                  <a:pt x="532" y="616"/>
                </a:lnTo>
                <a:lnTo>
                  <a:pt x="544" y="643"/>
                </a:lnTo>
                <a:lnTo>
                  <a:pt x="555" y="670"/>
                </a:lnTo>
                <a:lnTo>
                  <a:pt x="567" y="697"/>
                </a:lnTo>
                <a:lnTo>
                  <a:pt x="578" y="723"/>
                </a:lnTo>
                <a:lnTo>
                  <a:pt x="590" y="750"/>
                </a:lnTo>
                <a:lnTo>
                  <a:pt x="601" y="778"/>
                </a:lnTo>
                <a:lnTo>
                  <a:pt x="613" y="804"/>
                </a:lnTo>
                <a:lnTo>
                  <a:pt x="624" y="832"/>
                </a:lnTo>
                <a:lnTo>
                  <a:pt x="814" y="984"/>
                </a:lnTo>
                <a:lnTo>
                  <a:pt x="789" y="979"/>
                </a:lnTo>
                <a:lnTo>
                  <a:pt x="766" y="971"/>
                </a:lnTo>
                <a:lnTo>
                  <a:pt x="743" y="960"/>
                </a:lnTo>
                <a:lnTo>
                  <a:pt x="722" y="946"/>
                </a:lnTo>
                <a:lnTo>
                  <a:pt x="701" y="931"/>
                </a:lnTo>
                <a:lnTo>
                  <a:pt x="682" y="913"/>
                </a:lnTo>
                <a:lnTo>
                  <a:pt x="662" y="897"/>
                </a:lnTo>
                <a:lnTo>
                  <a:pt x="643" y="880"/>
                </a:lnTo>
                <a:lnTo>
                  <a:pt x="659" y="935"/>
                </a:lnTo>
                <a:lnTo>
                  <a:pt x="668" y="988"/>
                </a:lnTo>
                <a:lnTo>
                  <a:pt x="672" y="1036"/>
                </a:lnTo>
                <a:lnTo>
                  <a:pt x="672" y="1078"/>
                </a:lnTo>
                <a:lnTo>
                  <a:pt x="669" y="1114"/>
                </a:lnTo>
                <a:lnTo>
                  <a:pt x="665" y="1140"/>
                </a:lnTo>
                <a:lnTo>
                  <a:pt x="661" y="1158"/>
                </a:lnTo>
                <a:lnTo>
                  <a:pt x="660" y="1163"/>
                </a:lnTo>
                <a:lnTo>
                  <a:pt x="660" y="1125"/>
                </a:lnTo>
                <a:lnTo>
                  <a:pt x="659" y="1087"/>
                </a:lnTo>
                <a:lnTo>
                  <a:pt x="657" y="1049"/>
                </a:lnTo>
                <a:lnTo>
                  <a:pt x="651" y="1012"/>
                </a:lnTo>
                <a:lnTo>
                  <a:pt x="644" y="976"/>
                </a:lnTo>
                <a:lnTo>
                  <a:pt x="635" y="939"/>
                </a:lnTo>
                <a:lnTo>
                  <a:pt x="622" y="903"/>
                </a:lnTo>
                <a:lnTo>
                  <a:pt x="606" y="869"/>
                </a:lnTo>
                <a:lnTo>
                  <a:pt x="598" y="854"/>
                </a:lnTo>
                <a:lnTo>
                  <a:pt x="591" y="839"/>
                </a:lnTo>
                <a:lnTo>
                  <a:pt x="583" y="822"/>
                </a:lnTo>
                <a:lnTo>
                  <a:pt x="576" y="807"/>
                </a:lnTo>
                <a:lnTo>
                  <a:pt x="569" y="791"/>
                </a:lnTo>
                <a:lnTo>
                  <a:pt x="562" y="776"/>
                </a:lnTo>
                <a:lnTo>
                  <a:pt x="555" y="760"/>
                </a:lnTo>
                <a:lnTo>
                  <a:pt x="548" y="745"/>
                </a:lnTo>
                <a:lnTo>
                  <a:pt x="545" y="767"/>
                </a:lnTo>
                <a:lnTo>
                  <a:pt x="538" y="795"/>
                </a:lnTo>
                <a:lnTo>
                  <a:pt x="525" y="828"/>
                </a:lnTo>
                <a:lnTo>
                  <a:pt x="509" y="863"/>
                </a:lnTo>
                <a:lnTo>
                  <a:pt x="490" y="897"/>
                </a:lnTo>
                <a:lnTo>
                  <a:pt x="465" y="930"/>
                </a:lnTo>
                <a:lnTo>
                  <a:pt x="438" y="957"/>
                </a:lnTo>
                <a:lnTo>
                  <a:pt x="408" y="978"/>
                </a:lnTo>
                <a:lnTo>
                  <a:pt x="409" y="977"/>
                </a:lnTo>
                <a:lnTo>
                  <a:pt x="414" y="972"/>
                </a:lnTo>
                <a:lnTo>
                  <a:pt x="419" y="965"/>
                </a:lnTo>
                <a:lnTo>
                  <a:pt x="426" y="955"/>
                </a:lnTo>
                <a:lnTo>
                  <a:pt x="435" y="945"/>
                </a:lnTo>
                <a:lnTo>
                  <a:pt x="445" y="931"/>
                </a:lnTo>
                <a:lnTo>
                  <a:pt x="455" y="917"/>
                </a:lnTo>
                <a:lnTo>
                  <a:pt x="464" y="902"/>
                </a:lnTo>
                <a:lnTo>
                  <a:pt x="475" y="882"/>
                </a:lnTo>
                <a:lnTo>
                  <a:pt x="486" y="857"/>
                </a:lnTo>
                <a:lnTo>
                  <a:pt x="499" y="827"/>
                </a:lnTo>
                <a:lnTo>
                  <a:pt x="510" y="797"/>
                </a:lnTo>
                <a:lnTo>
                  <a:pt x="522" y="769"/>
                </a:lnTo>
                <a:lnTo>
                  <a:pt x="531" y="746"/>
                </a:lnTo>
                <a:lnTo>
                  <a:pt x="537" y="730"/>
                </a:lnTo>
                <a:lnTo>
                  <a:pt x="539" y="725"/>
                </a:lnTo>
                <a:lnTo>
                  <a:pt x="528" y="697"/>
                </a:lnTo>
                <a:lnTo>
                  <a:pt x="511" y="658"/>
                </a:lnTo>
                <a:lnTo>
                  <a:pt x="493" y="612"/>
                </a:lnTo>
                <a:lnTo>
                  <a:pt x="473" y="561"/>
                </a:lnTo>
                <a:lnTo>
                  <a:pt x="454" y="511"/>
                </a:lnTo>
                <a:lnTo>
                  <a:pt x="437" y="467"/>
                </a:lnTo>
                <a:lnTo>
                  <a:pt x="422" y="431"/>
                </a:lnTo>
                <a:lnTo>
                  <a:pt x="412" y="407"/>
                </a:lnTo>
                <a:lnTo>
                  <a:pt x="404" y="388"/>
                </a:lnTo>
                <a:lnTo>
                  <a:pt x="396" y="370"/>
                </a:lnTo>
                <a:lnTo>
                  <a:pt x="388" y="353"/>
                </a:lnTo>
                <a:lnTo>
                  <a:pt x="379" y="334"/>
                </a:lnTo>
                <a:lnTo>
                  <a:pt x="370" y="317"/>
                </a:lnTo>
                <a:lnTo>
                  <a:pt x="359" y="300"/>
                </a:lnTo>
                <a:lnTo>
                  <a:pt x="349" y="282"/>
                </a:lnTo>
                <a:lnTo>
                  <a:pt x="337" y="266"/>
                </a:lnTo>
                <a:lnTo>
                  <a:pt x="327" y="253"/>
                </a:lnTo>
                <a:lnTo>
                  <a:pt x="314" y="240"/>
                </a:lnTo>
                <a:lnTo>
                  <a:pt x="299" y="225"/>
                </a:lnTo>
                <a:lnTo>
                  <a:pt x="283" y="210"/>
                </a:lnTo>
                <a:lnTo>
                  <a:pt x="265" y="194"/>
                </a:lnTo>
                <a:lnTo>
                  <a:pt x="245" y="177"/>
                </a:lnTo>
                <a:lnTo>
                  <a:pt x="223" y="161"/>
                </a:lnTo>
                <a:lnTo>
                  <a:pt x="202" y="145"/>
                </a:lnTo>
                <a:lnTo>
                  <a:pt x="179" y="129"/>
                </a:lnTo>
                <a:lnTo>
                  <a:pt x="154" y="114"/>
                </a:lnTo>
                <a:lnTo>
                  <a:pt x="129" y="100"/>
                </a:lnTo>
                <a:lnTo>
                  <a:pt x="104" y="88"/>
                </a:lnTo>
                <a:lnTo>
                  <a:pt x="78" y="77"/>
                </a:lnTo>
                <a:lnTo>
                  <a:pt x="52" y="68"/>
                </a:lnTo>
                <a:lnTo>
                  <a:pt x="26" y="60"/>
                </a:lnTo>
                <a:lnTo>
                  <a:pt x="0" y="55"/>
                </a:lnTo>
                <a:lnTo>
                  <a:pt x="10" y="0"/>
                </a:lnTo>
                <a:lnTo>
                  <a:pt x="14" y="0"/>
                </a:lnTo>
                <a:lnTo>
                  <a:pt x="21" y="0"/>
                </a:lnTo>
                <a:lnTo>
                  <a:pt x="30" y="1"/>
                </a:lnTo>
                <a:lnTo>
                  <a:pt x="43" y="2"/>
                </a:lnTo>
                <a:lnTo>
                  <a:pt x="56" y="4"/>
                </a:lnTo>
                <a:lnTo>
                  <a:pt x="70" y="6"/>
                </a:lnTo>
                <a:lnTo>
                  <a:pt x="85" y="9"/>
                </a:lnTo>
                <a:lnTo>
                  <a:pt x="99" y="13"/>
                </a:lnTo>
                <a:lnTo>
                  <a:pt x="113" y="17"/>
                </a:lnTo>
                <a:lnTo>
                  <a:pt x="126" y="23"/>
                </a:lnTo>
                <a:lnTo>
                  <a:pt x="138" y="29"/>
                </a:lnTo>
                <a:lnTo>
                  <a:pt x="151" y="36"/>
                </a:lnTo>
                <a:lnTo>
                  <a:pt x="164" y="43"/>
                </a:lnTo>
                <a:lnTo>
                  <a:pt x="176" y="50"/>
                </a:lnTo>
                <a:lnTo>
                  <a:pt x="189" y="57"/>
                </a:lnTo>
                <a:lnTo>
                  <a:pt x="200" y="65"/>
                </a:lnTo>
                <a:lnTo>
                  <a:pt x="212" y="74"/>
                </a:lnTo>
                <a:lnTo>
                  <a:pt x="223" y="82"/>
                </a:lnTo>
                <a:lnTo>
                  <a:pt x="235" y="91"/>
                </a:lnTo>
                <a:lnTo>
                  <a:pt x="246" y="100"/>
                </a:lnTo>
                <a:lnTo>
                  <a:pt x="258" y="109"/>
                </a:lnTo>
                <a:lnTo>
                  <a:pt x="268" y="120"/>
                </a:lnTo>
                <a:lnTo>
                  <a:pt x="279" y="130"/>
                </a:lnTo>
                <a:lnTo>
                  <a:pt x="289" y="141"/>
                </a:lnTo>
                <a:lnTo>
                  <a:pt x="297" y="149"/>
                </a:lnTo>
                <a:lnTo>
                  <a:pt x="305" y="158"/>
                </a:lnTo>
                <a:lnTo>
                  <a:pt x="313" y="166"/>
                </a:lnTo>
                <a:lnTo>
                  <a:pt x="323" y="174"/>
                </a:lnTo>
                <a:lnTo>
                  <a:pt x="331" y="183"/>
                </a:lnTo>
                <a:lnTo>
                  <a:pt x="339" y="191"/>
                </a:lnTo>
                <a:lnTo>
                  <a:pt x="348" y="199"/>
                </a:lnTo>
                <a:lnTo>
                  <a:pt x="356" y="207"/>
                </a:lnTo>
                <a:lnTo>
                  <a:pt x="362" y="199"/>
                </a:lnTo>
                <a:lnTo>
                  <a:pt x="367" y="190"/>
                </a:lnTo>
                <a:lnTo>
                  <a:pt x="373" y="180"/>
                </a:lnTo>
                <a:lnTo>
                  <a:pt x="379" y="168"/>
                </a:lnTo>
                <a:lnTo>
                  <a:pt x="385" y="157"/>
                </a:lnTo>
                <a:lnTo>
                  <a:pt x="390" y="145"/>
                </a:lnTo>
                <a:lnTo>
                  <a:pt x="397" y="135"/>
                </a:lnTo>
                <a:lnTo>
                  <a:pt x="404" y="126"/>
                </a:lnTo>
                <a:lnTo>
                  <a:pt x="420" y="113"/>
                </a:lnTo>
                <a:lnTo>
                  <a:pt x="440" y="105"/>
                </a:lnTo>
                <a:lnTo>
                  <a:pt x="463" y="101"/>
                </a:lnTo>
                <a:lnTo>
                  <a:pt x="488" y="101"/>
                </a:lnTo>
                <a:lnTo>
                  <a:pt x="513" y="105"/>
                </a:lnTo>
                <a:lnTo>
                  <a:pt x="534" y="112"/>
                </a:lnTo>
                <a:lnTo>
                  <a:pt x="554" y="121"/>
                </a:lnTo>
                <a:lnTo>
                  <a:pt x="569" y="134"/>
                </a:lnTo>
                <a:lnTo>
                  <a:pt x="592" y="168"/>
                </a:lnTo>
                <a:lnTo>
                  <a:pt x="605" y="204"/>
                </a:lnTo>
                <a:lnTo>
                  <a:pt x="610" y="242"/>
                </a:lnTo>
                <a:lnTo>
                  <a:pt x="613" y="281"/>
                </a:lnTo>
                <a:lnTo>
                  <a:pt x="612" y="320"/>
                </a:lnTo>
                <a:lnTo>
                  <a:pt x="610" y="361"/>
                </a:lnTo>
                <a:lnTo>
                  <a:pt x="612" y="401"/>
                </a:lnTo>
                <a:lnTo>
                  <a:pt x="617" y="440"/>
                </a:lnTo>
                <a:lnTo>
                  <a:pt x="630" y="433"/>
                </a:lnTo>
                <a:lnTo>
                  <a:pt x="644" y="426"/>
                </a:lnTo>
                <a:lnTo>
                  <a:pt x="657" y="420"/>
                </a:lnTo>
                <a:lnTo>
                  <a:pt x="670" y="415"/>
                </a:lnTo>
                <a:lnTo>
                  <a:pt x="684" y="410"/>
                </a:lnTo>
                <a:lnTo>
                  <a:pt x="699" y="407"/>
                </a:lnTo>
                <a:lnTo>
                  <a:pt x="713" y="403"/>
                </a:lnTo>
                <a:lnTo>
                  <a:pt x="728" y="401"/>
                </a:lnTo>
                <a:lnTo>
                  <a:pt x="742" y="400"/>
                </a:lnTo>
                <a:lnTo>
                  <a:pt x="757" y="399"/>
                </a:lnTo>
                <a:lnTo>
                  <a:pt x="771" y="400"/>
                </a:lnTo>
                <a:lnTo>
                  <a:pt x="786" y="402"/>
                </a:lnTo>
                <a:lnTo>
                  <a:pt x="799" y="404"/>
                </a:lnTo>
                <a:lnTo>
                  <a:pt x="814" y="409"/>
                </a:lnTo>
                <a:lnTo>
                  <a:pt x="828" y="416"/>
                </a:lnTo>
                <a:lnTo>
                  <a:pt x="842" y="423"/>
                </a:lnTo>
                <a:lnTo>
                  <a:pt x="858" y="433"/>
                </a:lnTo>
                <a:lnTo>
                  <a:pt x="874" y="444"/>
                </a:lnTo>
                <a:lnTo>
                  <a:pt x="889" y="456"/>
                </a:lnTo>
                <a:lnTo>
                  <a:pt x="902" y="470"/>
                </a:lnTo>
                <a:lnTo>
                  <a:pt x="912" y="485"/>
                </a:lnTo>
                <a:lnTo>
                  <a:pt x="919" y="501"/>
                </a:lnTo>
                <a:lnTo>
                  <a:pt x="923" y="518"/>
                </a:lnTo>
                <a:lnTo>
                  <a:pt x="921" y="537"/>
                </a:lnTo>
                <a:lnTo>
                  <a:pt x="917" y="563"/>
                </a:lnTo>
                <a:lnTo>
                  <a:pt x="909" y="590"/>
                </a:lnTo>
                <a:lnTo>
                  <a:pt x="898" y="615"/>
                </a:lnTo>
                <a:lnTo>
                  <a:pt x="887" y="639"/>
                </a:lnTo>
                <a:lnTo>
                  <a:pt x="872" y="662"/>
                </a:lnTo>
                <a:lnTo>
                  <a:pt x="856" y="683"/>
                </a:lnTo>
                <a:lnTo>
                  <a:pt x="839" y="704"/>
                </a:lnTo>
                <a:lnTo>
                  <a:pt x="819" y="722"/>
                </a:lnTo>
                <a:lnTo>
                  <a:pt x="835" y="729"/>
                </a:lnTo>
                <a:lnTo>
                  <a:pt x="852" y="736"/>
                </a:lnTo>
                <a:lnTo>
                  <a:pt x="870" y="743"/>
                </a:lnTo>
                <a:lnTo>
                  <a:pt x="887" y="751"/>
                </a:lnTo>
                <a:lnTo>
                  <a:pt x="904" y="760"/>
                </a:lnTo>
                <a:lnTo>
                  <a:pt x="921" y="768"/>
                </a:lnTo>
                <a:lnTo>
                  <a:pt x="938" y="779"/>
                </a:lnTo>
                <a:lnTo>
                  <a:pt x="954" y="788"/>
                </a:lnTo>
                <a:lnTo>
                  <a:pt x="986" y="811"/>
                </a:lnTo>
                <a:lnTo>
                  <a:pt x="1010" y="835"/>
                </a:lnTo>
                <a:lnTo>
                  <a:pt x="1027" y="860"/>
                </a:lnTo>
                <a:lnTo>
                  <a:pt x="1039" y="886"/>
                </a:lnTo>
                <a:lnTo>
                  <a:pt x="1044" y="911"/>
                </a:lnTo>
                <a:lnTo>
                  <a:pt x="1044" y="938"/>
                </a:lnTo>
                <a:lnTo>
                  <a:pt x="1040" y="964"/>
                </a:lnTo>
                <a:lnTo>
                  <a:pt x="1032" y="992"/>
                </a:lnTo>
                <a:lnTo>
                  <a:pt x="1025" y="1010"/>
                </a:lnTo>
                <a:lnTo>
                  <a:pt x="1017" y="1029"/>
                </a:lnTo>
                <a:lnTo>
                  <a:pt x="1008" y="1046"/>
                </a:lnTo>
                <a:lnTo>
                  <a:pt x="997" y="1063"/>
                </a:lnTo>
                <a:lnTo>
                  <a:pt x="985" y="1078"/>
                </a:lnTo>
                <a:lnTo>
                  <a:pt x="970" y="1091"/>
                </a:lnTo>
                <a:lnTo>
                  <a:pt x="953" y="1100"/>
                </a:lnTo>
                <a:lnTo>
                  <a:pt x="932" y="1106"/>
                </a:lnTo>
                <a:lnTo>
                  <a:pt x="920" y="1108"/>
                </a:lnTo>
                <a:lnTo>
                  <a:pt x="909" y="1109"/>
                </a:lnTo>
                <a:lnTo>
                  <a:pt x="896" y="1112"/>
                </a:lnTo>
                <a:lnTo>
                  <a:pt x="885" y="1113"/>
                </a:lnTo>
                <a:lnTo>
                  <a:pt x="873" y="1114"/>
                </a:lnTo>
                <a:lnTo>
                  <a:pt x="860" y="1115"/>
                </a:lnTo>
                <a:lnTo>
                  <a:pt x="849" y="1115"/>
                </a:lnTo>
                <a:lnTo>
                  <a:pt x="837" y="1115"/>
                </a:lnTo>
                <a:lnTo>
                  <a:pt x="843" y="1125"/>
                </a:lnTo>
                <a:lnTo>
                  <a:pt x="848" y="1136"/>
                </a:lnTo>
                <a:lnTo>
                  <a:pt x="852" y="1148"/>
                </a:lnTo>
                <a:lnTo>
                  <a:pt x="858" y="1160"/>
                </a:lnTo>
                <a:lnTo>
                  <a:pt x="862" y="1173"/>
                </a:lnTo>
                <a:lnTo>
                  <a:pt x="866" y="1185"/>
                </a:lnTo>
                <a:lnTo>
                  <a:pt x="870" y="1197"/>
                </a:lnTo>
                <a:lnTo>
                  <a:pt x="872" y="1208"/>
                </a:lnTo>
                <a:lnTo>
                  <a:pt x="840" y="12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reeform 13"/>
          <p:cNvSpPr/>
          <p:nvPr/>
        </p:nvSpPr>
        <p:spPr>
          <a:xfrm>
            <a:off x="6648480" y="2732040"/>
            <a:ext cx="436680" cy="808200"/>
          </a:xfrm>
          <a:custGeom>
            <a:avLst/>
            <a:gdLst>
              <a:gd name="textAreaLeft" fmla="*/ 0 w 436680"/>
              <a:gd name="textAreaRight" fmla="*/ 437040 w 43668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548" h="1019">
                <a:moveTo>
                  <a:pt x="492" y="1019"/>
                </a:moveTo>
                <a:lnTo>
                  <a:pt x="496" y="1005"/>
                </a:lnTo>
                <a:lnTo>
                  <a:pt x="502" y="989"/>
                </a:lnTo>
                <a:lnTo>
                  <a:pt x="508" y="970"/>
                </a:lnTo>
                <a:lnTo>
                  <a:pt x="513" y="953"/>
                </a:lnTo>
                <a:lnTo>
                  <a:pt x="517" y="935"/>
                </a:lnTo>
                <a:lnTo>
                  <a:pt x="518" y="916"/>
                </a:lnTo>
                <a:lnTo>
                  <a:pt x="518" y="898"/>
                </a:lnTo>
                <a:lnTo>
                  <a:pt x="516" y="882"/>
                </a:lnTo>
                <a:lnTo>
                  <a:pt x="510" y="880"/>
                </a:lnTo>
                <a:lnTo>
                  <a:pt x="498" y="884"/>
                </a:lnTo>
                <a:lnTo>
                  <a:pt x="478" y="892"/>
                </a:lnTo>
                <a:lnTo>
                  <a:pt x="455" y="902"/>
                </a:lnTo>
                <a:lnTo>
                  <a:pt x="430" y="913"/>
                </a:lnTo>
                <a:lnTo>
                  <a:pt x="404" y="924"/>
                </a:lnTo>
                <a:lnTo>
                  <a:pt x="380" y="933"/>
                </a:lnTo>
                <a:lnTo>
                  <a:pt x="359" y="940"/>
                </a:lnTo>
                <a:lnTo>
                  <a:pt x="329" y="945"/>
                </a:lnTo>
                <a:lnTo>
                  <a:pt x="301" y="941"/>
                </a:lnTo>
                <a:lnTo>
                  <a:pt x="273" y="933"/>
                </a:lnTo>
                <a:lnTo>
                  <a:pt x="249" y="920"/>
                </a:lnTo>
                <a:lnTo>
                  <a:pt x="228" y="902"/>
                </a:lnTo>
                <a:lnTo>
                  <a:pt x="212" y="883"/>
                </a:lnTo>
                <a:lnTo>
                  <a:pt x="202" y="861"/>
                </a:lnTo>
                <a:lnTo>
                  <a:pt x="197" y="839"/>
                </a:lnTo>
                <a:lnTo>
                  <a:pt x="199" y="803"/>
                </a:lnTo>
                <a:lnTo>
                  <a:pt x="207" y="770"/>
                </a:lnTo>
                <a:lnTo>
                  <a:pt x="220" y="736"/>
                </a:lnTo>
                <a:lnTo>
                  <a:pt x="237" y="704"/>
                </a:lnTo>
                <a:lnTo>
                  <a:pt x="258" y="673"/>
                </a:lnTo>
                <a:lnTo>
                  <a:pt x="280" y="642"/>
                </a:lnTo>
                <a:lnTo>
                  <a:pt x="303" y="612"/>
                </a:lnTo>
                <a:lnTo>
                  <a:pt x="326" y="582"/>
                </a:lnTo>
                <a:lnTo>
                  <a:pt x="310" y="582"/>
                </a:lnTo>
                <a:lnTo>
                  <a:pt x="295" y="582"/>
                </a:lnTo>
                <a:lnTo>
                  <a:pt x="279" y="582"/>
                </a:lnTo>
                <a:lnTo>
                  <a:pt x="264" y="581"/>
                </a:lnTo>
                <a:lnTo>
                  <a:pt x="248" y="581"/>
                </a:lnTo>
                <a:lnTo>
                  <a:pt x="231" y="580"/>
                </a:lnTo>
                <a:lnTo>
                  <a:pt x="215" y="579"/>
                </a:lnTo>
                <a:lnTo>
                  <a:pt x="199" y="577"/>
                </a:lnTo>
                <a:lnTo>
                  <a:pt x="181" y="575"/>
                </a:lnTo>
                <a:lnTo>
                  <a:pt x="162" y="572"/>
                </a:lnTo>
                <a:lnTo>
                  <a:pt x="144" y="567"/>
                </a:lnTo>
                <a:lnTo>
                  <a:pt x="124" y="560"/>
                </a:lnTo>
                <a:lnTo>
                  <a:pt x="106" y="553"/>
                </a:lnTo>
                <a:lnTo>
                  <a:pt x="87" y="544"/>
                </a:lnTo>
                <a:lnTo>
                  <a:pt x="70" y="535"/>
                </a:lnTo>
                <a:lnTo>
                  <a:pt x="54" y="523"/>
                </a:lnTo>
                <a:lnTo>
                  <a:pt x="39" y="512"/>
                </a:lnTo>
                <a:lnTo>
                  <a:pt x="26" y="498"/>
                </a:lnTo>
                <a:lnTo>
                  <a:pt x="15" y="484"/>
                </a:lnTo>
                <a:lnTo>
                  <a:pt x="7" y="469"/>
                </a:lnTo>
                <a:lnTo>
                  <a:pt x="2" y="453"/>
                </a:lnTo>
                <a:lnTo>
                  <a:pt x="0" y="436"/>
                </a:lnTo>
                <a:lnTo>
                  <a:pt x="1" y="419"/>
                </a:lnTo>
                <a:lnTo>
                  <a:pt x="6" y="400"/>
                </a:lnTo>
                <a:lnTo>
                  <a:pt x="16" y="375"/>
                </a:lnTo>
                <a:lnTo>
                  <a:pt x="28" y="351"/>
                </a:lnTo>
                <a:lnTo>
                  <a:pt x="40" y="328"/>
                </a:lnTo>
                <a:lnTo>
                  <a:pt x="55" y="307"/>
                </a:lnTo>
                <a:lnTo>
                  <a:pt x="71" y="288"/>
                </a:lnTo>
                <a:lnTo>
                  <a:pt x="87" y="271"/>
                </a:lnTo>
                <a:lnTo>
                  <a:pt x="106" y="255"/>
                </a:lnTo>
                <a:lnTo>
                  <a:pt x="125" y="241"/>
                </a:lnTo>
                <a:lnTo>
                  <a:pt x="107" y="233"/>
                </a:lnTo>
                <a:lnTo>
                  <a:pt x="89" y="224"/>
                </a:lnTo>
                <a:lnTo>
                  <a:pt x="73" y="211"/>
                </a:lnTo>
                <a:lnTo>
                  <a:pt x="59" y="197"/>
                </a:lnTo>
                <a:lnTo>
                  <a:pt x="46" y="182"/>
                </a:lnTo>
                <a:lnTo>
                  <a:pt x="37" y="165"/>
                </a:lnTo>
                <a:lnTo>
                  <a:pt x="30" y="147"/>
                </a:lnTo>
                <a:lnTo>
                  <a:pt x="26" y="127"/>
                </a:lnTo>
                <a:lnTo>
                  <a:pt x="26" y="110"/>
                </a:lnTo>
                <a:lnTo>
                  <a:pt x="29" y="95"/>
                </a:lnTo>
                <a:lnTo>
                  <a:pt x="33" y="80"/>
                </a:lnTo>
                <a:lnTo>
                  <a:pt x="39" y="65"/>
                </a:lnTo>
                <a:lnTo>
                  <a:pt x="48" y="52"/>
                </a:lnTo>
                <a:lnTo>
                  <a:pt x="58" y="41"/>
                </a:lnTo>
                <a:lnTo>
                  <a:pt x="69" y="30"/>
                </a:lnTo>
                <a:lnTo>
                  <a:pt x="82" y="21"/>
                </a:lnTo>
                <a:lnTo>
                  <a:pt x="96" y="13"/>
                </a:lnTo>
                <a:lnTo>
                  <a:pt x="111" y="7"/>
                </a:lnTo>
                <a:lnTo>
                  <a:pt x="125" y="4"/>
                </a:lnTo>
                <a:lnTo>
                  <a:pt x="142" y="2"/>
                </a:lnTo>
                <a:lnTo>
                  <a:pt x="159" y="0"/>
                </a:lnTo>
                <a:lnTo>
                  <a:pt x="175" y="3"/>
                </a:lnTo>
                <a:lnTo>
                  <a:pt x="192" y="6"/>
                </a:lnTo>
                <a:lnTo>
                  <a:pt x="208" y="13"/>
                </a:lnTo>
                <a:lnTo>
                  <a:pt x="182" y="70"/>
                </a:lnTo>
                <a:lnTo>
                  <a:pt x="164" y="61"/>
                </a:lnTo>
                <a:lnTo>
                  <a:pt x="140" y="55"/>
                </a:lnTo>
                <a:lnTo>
                  <a:pt x="115" y="52"/>
                </a:lnTo>
                <a:lnTo>
                  <a:pt x="91" y="55"/>
                </a:lnTo>
                <a:lnTo>
                  <a:pt x="73" y="61"/>
                </a:lnTo>
                <a:lnTo>
                  <a:pt x="62" y="75"/>
                </a:lnTo>
                <a:lnTo>
                  <a:pt x="62" y="98"/>
                </a:lnTo>
                <a:lnTo>
                  <a:pt x="76" y="129"/>
                </a:lnTo>
                <a:lnTo>
                  <a:pt x="92" y="147"/>
                </a:lnTo>
                <a:lnTo>
                  <a:pt x="113" y="162"/>
                </a:lnTo>
                <a:lnTo>
                  <a:pt x="137" y="174"/>
                </a:lnTo>
                <a:lnTo>
                  <a:pt x="162" y="184"/>
                </a:lnTo>
                <a:lnTo>
                  <a:pt x="185" y="192"/>
                </a:lnTo>
                <a:lnTo>
                  <a:pt x="205" y="196"/>
                </a:lnTo>
                <a:lnTo>
                  <a:pt x="219" y="200"/>
                </a:lnTo>
                <a:lnTo>
                  <a:pt x="225" y="201"/>
                </a:lnTo>
                <a:lnTo>
                  <a:pt x="222" y="203"/>
                </a:lnTo>
                <a:lnTo>
                  <a:pt x="214" y="209"/>
                </a:lnTo>
                <a:lnTo>
                  <a:pt x="204" y="217"/>
                </a:lnTo>
                <a:lnTo>
                  <a:pt x="189" y="227"/>
                </a:lnTo>
                <a:lnTo>
                  <a:pt x="173" y="241"/>
                </a:lnTo>
                <a:lnTo>
                  <a:pt x="155" y="256"/>
                </a:lnTo>
                <a:lnTo>
                  <a:pt x="137" y="272"/>
                </a:lnTo>
                <a:lnTo>
                  <a:pt x="119" y="290"/>
                </a:lnTo>
                <a:lnTo>
                  <a:pt x="100" y="308"/>
                </a:lnTo>
                <a:lnTo>
                  <a:pt x="85" y="328"/>
                </a:lnTo>
                <a:lnTo>
                  <a:pt x="71" y="346"/>
                </a:lnTo>
                <a:lnTo>
                  <a:pt x="61" y="364"/>
                </a:lnTo>
                <a:lnTo>
                  <a:pt x="54" y="383"/>
                </a:lnTo>
                <a:lnTo>
                  <a:pt x="52" y="400"/>
                </a:lnTo>
                <a:lnTo>
                  <a:pt x="55" y="416"/>
                </a:lnTo>
                <a:lnTo>
                  <a:pt x="66" y="431"/>
                </a:lnTo>
                <a:lnTo>
                  <a:pt x="83" y="447"/>
                </a:lnTo>
                <a:lnTo>
                  <a:pt x="104" y="461"/>
                </a:lnTo>
                <a:lnTo>
                  <a:pt x="125" y="474"/>
                </a:lnTo>
                <a:lnTo>
                  <a:pt x="150" y="485"/>
                </a:lnTo>
                <a:lnTo>
                  <a:pt x="175" y="495"/>
                </a:lnTo>
                <a:lnTo>
                  <a:pt x="200" y="504"/>
                </a:lnTo>
                <a:lnTo>
                  <a:pt x="227" y="511"/>
                </a:lnTo>
                <a:lnTo>
                  <a:pt x="252" y="516"/>
                </a:lnTo>
                <a:lnTo>
                  <a:pt x="276" y="521"/>
                </a:lnTo>
                <a:lnTo>
                  <a:pt x="299" y="526"/>
                </a:lnTo>
                <a:lnTo>
                  <a:pt x="320" y="529"/>
                </a:lnTo>
                <a:lnTo>
                  <a:pt x="339" y="530"/>
                </a:lnTo>
                <a:lnTo>
                  <a:pt x="354" y="533"/>
                </a:lnTo>
                <a:lnTo>
                  <a:pt x="365" y="534"/>
                </a:lnTo>
                <a:lnTo>
                  <a:pt x="373" y="534"/>
                </a:lnTo>
                <a:lnTo>
                  <a:pt x="375" y="534"/>
                </a:lnTo>
                <a:lnTo>
                  <a:pt x="369" y="545"/>
                </a:lnTo>
                <a:lnTo>
                  <a:pt x="352" y="571"/>
                </a:lnTo>
                <a:lnTo>
                  <a:pt x="331" y="606"/>
                </a:lnTo>
                <a:lnTo>
                  <a:pt x="306" y="648"/>
                </a:lnTo>
                <a:lnTo>
                  <a:pt x="282" y="690"/>
                </a:lnTo>
                <a:lnTo>
                  <a:pt x="261" y="732"/>
                </a:lnTo>
                <a:lnTo>
                  <a:pt x="246" y="766"/>
                </a:lnTo>
                <a:lnTo>
                  <a:pt x="243" y="789"/>
                </a:lnTo>
                <a:lnTo>
                  <a:pt x="248" y="810"/>
                </a:lnTo>
                <a:lnTo>
                  <a:pt x="256" y="829"/>
                </a:lnTo>
                <a:lnTo>
                  <a:pt x="267" y="845"/>
                </a:lnTo>
                <a:lnTo>
                  <a:pt x="281" y="857"/>
                </a:lnTo>
                <a:lnTo>
                  <a:pt x="299" y="867"/>
                </a:lnTo>
                <a:lnTo>
                  <a:pt x="320" y="873"/>
                </a:lnTo>
                <a:lnTo>
                  <a:pt x="344" y="876"/>
                </a:lnTo>
                <a:lnTo>
                  <a:pt x="372" y="873"/>
                </a:lnTo>
                <a:lnTo>
                  <a:pt x="395" y="869"/>
                </a:lnTo>
                <a:lnTo>
                  <a:pt x="417" y="863"/>
                </a:lnTo>
                <a:lnTo>
                  <a:pt x="439" y="855"/>
                </a:lnTo>
                <a:lnTo>
                  <a:pt x="460" y="847"/>
                </a:lnTo>
                <a:lnTo>
                  <a:pt x="480" y="839"/>
                </a:lnTo>
                <a:lnTo>
                  <a:pt x="501" y="832"/>
                </a:lnTo>
                <a:lnTo>
                  <a:pt x="522" y="827"/>
                </a:lnTo>
                <a:lnTo>
                  <a:pt x="545" y="825"/>
                </a:lnTo>
                <a:lnTo>
                  <a:pt x="548" y="870"/>
                </a:lnTo>
                <a:lnTo>
                  <a:pt x="546" y="920"/>
                </a:lnTo>
                <a:lnTo>
                  <a:pt x="540" y="971"/>
                </a:lnTo>
                <a:lnTo>
                  <a:pt x="537" y="1017"/>
                </a:lnTo>
                <a:lnTo>
                  <a:pt x="492" y="10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7035840" y="3508200"/>
            <a:ext cx="311040" cy="201960"/>
          </a:xfrm>
          <a:custGeom>
            <a:avLst/>
            <a:gdLst>
              <a:gd name="textAreaLeft" fmla="*/ 0 w 311040"/>
              <a:gd name="textAreaRight" fmla="*/ 311400 w 31104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393" h="254">
                <a:moveTo>
                  <a:pt x="5" y="41"/>
                </a:moveTo>
                <a:lnTo>
                  <a:pt x="1" y="57"/>
                </a:lnTo>
                <a:lnTo>
                  <a:pt x="0" y="74"/>
                </a:lnTo>
                <a:lnTo>
                  <a:pt x="0" y="92"/>
                </a:lnTo>
                <a:lnTo>
                  <a:pt x="1" y="112"/>
                </a:lnTo>
                <a:lnTo>
                  <a:pt x="6" y="133"/>
                </a:lnTo>
                <a:lnTo>
                  <a:pt x="13" y="153"/>
                </a:lnTo>
                <a:lnTo>
                  <a:pt x="22" y="174"/>
                </a:lnTo>
                <a:lnTo>
                  <a:pt x="36" y="195"/>
                </a:lnTo>
                <a:lnTo>
                  <a:pt x="53" y="210"/>
                </a:lnTo>
                <a:lnTo>
                  <a:pt x="72" y="221"/>
                </a:lnTo>
                <a:lnTo>
                  <a:pt x="90" y="231"/>
                </a:lnTo>
                <a:lnTo>
                  <a:pt x="108" y="238"/>
                </a:lnTo>
                <a:lnTo>
                  <a:pt x="128" y="243"/>
                </a:lnTo>
                <a:lnTo>
                  <a:pt x="149" y="247"/>
                </a:lnTo>
                <a:lnTo>
                  <a:pt x="169" y="250"/>
                </a:lnTo>
                <a:lnTo>
                  <a:pt x="191" y="253"/>
                </a:lnTo>
                <a:lnTo>
                  <a:pt x="210" y="254"/>
                </a:lnTo>
                <a:lnTo>
                  <a:pt x="229" y="253"/>
                </a:lnTo>
                <a:lnTo>
                  <a:pt x="247" y="250"/>
                </a:lnTo>
                <a:lnTo>
                  <a:pt x="264" y="248"/>
                </a:lnTo>
                <a:lnTo>
                  <a:pt x="280" y="243"/>
                </a:lnTo>
                <a:lnTo>
                  <a:pt x="296" y="239"/>
                </a:lnTo>
                <a:lnTo>
                  <a:pt x="309" y="233"/>
                </a:lnTo>
                <a:lnTo>
                  <a:pt x="322" y="227"/>
                </a:lnTo>
                <a:lnTo>
                  <a:pt x="338" y="216"/>
                </a:lnTo>
                <a:lnTo>
                  <a:pt x="350" y="202"/>
                </a:lnTo>
                <a:lnTo>
                  <a:pt x="362" y="185"/>
                </a:lnTo>
                <a:lnTo>
                  <a:pt x="371" y="166"/>
                </a:lnTo>
                <a:lnTo>
                  <a:pt x="378" y="147"/>
                </a:lnTo>
                <a:lnTo>
                  <a:pt x="383" y="126"/>
                </a:lnTo>
                <a:lnTo>
                  <a:pt x="387" y="105"/>
                </a:lnTo>
                <a:lnTo>
                  <a:pt x="389" y="84"/>
                </a:lnTo>
                <a:lnTo>
                  <a:pt x="391" y="66"/>
                </a:lnTo>
                <a:lnTo>
                  <a:pt x="393" y="43"/>
                </a:lnTo>
                <a:lnTo>
                  <a:pt x="393" y="20"/>
                </a:lnTo>
                <a:lnTo>
                  <a:pt x="393" y="0"/>
                </a:lnTo>
                <a:lnTo>
                  <a:pt x="361" y="5"/>
                </a:lnTo>
                <a:lnTo>
                  <a:pt x="363" y="36"/>
                </a:lnTo>
                <a:lnTo>
                  <a:pt x="364" y="71"/>
                </a:lnTo>
                <a:lnTo>
                  <a:pt x="362" y="106"/>
                </a:lnTo>
                <a:lnTo>
                  <a:pt x="356" y="139"/>
                </a:lnTo>
                <a:lnTo>
                  <a:pt x="347" y="153"/>
                </a:lnTo>
                <a:lnTo>
                  <a:pt x="336" y="165"/>
                </a:lnTo>
                <a:lnTo>
                  <a:pt x="323" y="175"/>
                </a:lnTo>
                <a:lnTo>
                  <a:pt x="309" y="183"/>
                </a:lnTo>
                <a:lnTo>
                  <a:pt x="292" y="189"/>
                </a:lnTo>
                <a:lnTo>
                  <a:pt x="274" y="193"/>
                </a:lnTo>
                <a:lnTo>
                  <a:pt x="256" y="195"/>
                </a:lnTo>
                <a:lnTo>
                  <a:pt x="237" y="195"/>
                </a:lnTo>
                <a:lnTo>
                  <a:pt x="218" y="194"/>
                </a:lnTo>
                <a:lnTo>
                  <a:pt x="198" y="190"/>
                </a:lnTo>
                <a:lnTo>
                  <a:pt x="179" y="186"/>
                </a:lnTo>
                <a:lnTo>
                  <a:pt x="159" y="180"/>
                </a:lnTo>
                <a:lnTo>
                  <a:pt x="141" y="173"/>
                </a:lnTo>
                <a:lnTo>
                  <a:pt x="122" y="165"/>
                </a:lnTo>
                <a:lnTo>
                  <a:pt x="106" y="156"/>
                </a:lnTo>
                <a:lnTo>
                  <a:pt x="91" y="147"/>
                </a:lnTo>
                <a:lnTo>
                  <a:pt x="81" y="134"/>
                </a:lnTo>
                <a:lnTo>
                  <a:pt x="72" y="121"/>
                </a:lnTo>
                <a:lnTo>
                  <a:pt x="65" y="107"/>
                </a:lnTo>
                <a:lnTo>
                  <a:pt x="60" y="92"/>
                </a:lnTo>
                <a:lnTo>
                  <a:pt x="55" y="79"/>
                </a:lnTo>
                <a:lnTo>
                  <a:pt x="53" y="65"/>
                </a:lnTo>
                <a:lnTo>
                  <a:pt x="51" y="51"/>
                </a:lnTo>
                <a:lnTo>
                  <a:pt x="50" y="39"/>
                </a:lnTo>
                <a:lnTo>
                  <a:pt x="5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15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6553080" y="4038480"/>
            <a:ext cx="180684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9143640" y="617184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nly a pract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3200400" y="380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olling 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xaminer.com/presentation-skills-in-national/how-to-use-color-to-make-presentations-more-effective-part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indezine.com/ideas/davesurvey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eterli.com/spm/resources/articles/archive.php?article_id=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G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2" descr="C:\Users\staycle\Desktop\imagesCA46Y67K.jpg"/>
          <p:cNvPicPr/>
          <p:nvPr/>
        </p:nvPicPr>
        <p:blipFill>
          <a:blip r:embed="rId1"/>
          <a:stretch/>
        </p:blipFill>
        <p:spPr>
          <a:xfrm>
            <a:off x="2362320" y="2743200"/>
            <a:ext cx="1628640" cy="16128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C:\Users\staycle\Desktop\imagesCAJA2DY4.jpg"/>
          <p:cNvPicPr/>
          <p:nvPr/>
        </p:nvPicPr>
        <p:blipFill>
          <a:blip r:embed="rId2"/>
          <a:stretch/>
        </p:blipFill>
        <p:spPr>
          <a:xfrm>
            <a:off x="2438280" y="259092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C:\Users\staycle\Desktop\imagesCAHG9LWY.jpg"/>
          <p:cNvPicPr/>
          <p:nvPr/>
        </p:nvPicPr>
        <p:blipFill>
          <a:blip r:embed="rId3"/>
          <a:stretch/>
        </p:blipFill>
        <p:spPr>
          <a:xfrm>
            <a:off x="2133720" y="228600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C:\Users\staycle\Desktop\imagesCAAE3XDT.jpg"/>
          <p:cNvPicPr/>
          <p:nvPr/>
        </p:nvPicPr>
        <p:blipFill>
          <a:blip r:embed="rId4"/>
          <a:stretch/>
        </p:blipFill>
        <p:spPr>
          <a:xfrm>
            <a:off x="2666880" y="2819520"/>
            <a:ext cx="16941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5" descr="j0344845"/>
          <p:cNvPicPr/>
          <p:nvPr/>
        </p:nvPicPr>
        <p:blipFill>
          <a:blip r:embed="rId1"/>
          <a:stretch/>
        </p:blipFill>
        <p:spPr>
          <a:xfrm>
            <a:off x="4724280" y="2057400"/>
            <a:ext cx="1746360" cy="960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dglxasset[1]"/>
          <p:cNvPicPr/>
          <p:nvPr/>
        </p:nvPicPr>
        <p:blipFill>
          <a:blip r:embed="rId2"/>
          <a:stretch/>
        </p:blipFill>
        <p:spPr>
          <a:xfrm>
            <a:off x="2666880" y="1905120"/>
            <a:ext cx="1144800" cy="17096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dglxasset[1]"/>
          <p:cNvPicPr/>
          <p:nvPr/>
        </p:nvPicPr>
        <p:blipFill>
          <a:blip r:embed="rId3"/>
          <a:stretch/>
        </p:blipFill>
        <p:spPr>
          <a:xfrm>
            <a:off x="4038480" y="1905120"/>
            <a:ext cx="1101960" cy="18795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j0183328"/>
          <p:cNvPicPr/>
          <p:nvPr/>
        </p:nvPicPr>
        <p:blipFill>
          <a:blip r:embed="rId4"/>
          <a:stretch/>
        </p:blipFill>
        <p:spPr>
          <a:xfrm>
            <a:off x="2514600" y="533520"/>
            <a:ext cx="4419720" cy="40431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5"/>
          <p:cNvSpPr/>
          <p:nvPr/>
        </p:nvSpPr>
        <p:spPr>
          <a:xfrm>
            <a:off x="281952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4798E-006 C -0.15399 0.00833 -0.30799 0.01688 -0.32222 0.09942 C -0.33646 0.18197 -0.13264 0.42405 -0.08559 0.4948 C -0.03871 0.56555 -0.0493 0.51977 -0.03958 0.5244 C -0.03021 0.52902 -0.02951 0.52555 -0.02865 0.52231 E">
                                      <p:cBhvr>
                                        <p:cTn id="32" dur="3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34" dur="3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3 C 0.07813 0.00047 0.15608 0.00115999999999999 0.18421 0.08694 C 0.21233 0.17318 0.27153 0.46081 0.16841 0.51607 C 0.06528 0.57133 -0.31093 0.54428 -0.43472 0.41896 C -0.5585 0.29364 -0.55121 -0.12277 -0.57448 -0.2363 C -0.59774 -0.35005 -0.58611 -0.30728 -0.57448 -0.26404 E">
                                      <p:cBhvr>
                                        <p:cTn id="36" dur="3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ttp://www.google.com/url?source=imgres&amp;ct=img&amp;q=http://www.dancingzebra.com/images/DigestiveSystem.gif&amp;sa=X&amp;ei=ZDmWTYuqPNCDtgfWscyDDA&amp;ved=0CAQQ8wc4Nw&amp;usg=AFQjCNF2iq7bOvieJieA5amkqPDxrWzG3A"/>
          <p:cNvPicPr/>
          <p:nvPr/>
        </p:nvPicPr>
        <p:blipFill>
          <a:blip r:embed="rId1"/>
          <a:stretch/>
        </p:blipFill>
        <p:spPr>
          <a:xfrm>
            <a:off x="2590920" y="762120"/>
            <a:ext cx="4114800" cy="5064120"/>
          </a:xfrm>
          <a:prstGeom prst="rect">
            <a:avLst/>
          </a:prstGeom>
          <a:ln w="0">
            <a:noFill/>
          </a:ln>
        </p:spPr>
      </p:pic>
      <p:sp>
        <p:nvSpPr>
          <p:cNvPr id="618" name="Oval 4"/>
          <p:cNvSpPr/>
          <p:nvPr/>
        </p:nvSpPr>
        <p:spPr>
          <a:xfrm>
            <a:off x="5486400" y="144792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5097E-006 C -0.00087 -0.00185 -0.00156 -0.0037 -0.0026 -0.00532 C -0.00382 -0.00717 -0.00538 -0.00833 -0.00642 -0.01041 C -0.00955 -0.01688 -0.00469 -0.01573 -0.01163 -0.02081 C -0.02101 -0.02775 -0.03385 -0.02983 -0.0441 -0.03122 C -0.05017 -0.03053 -0.05642 -0.03145 -0.06233 -0.02937 C -0.06528 -0.02845 -0.06754 -0.02475 -0.07014 -0.02243 C -0.07135 -0.02128 -0.07396 -0.01896 -0.07396 -0.01896 C -0.07743 -0.00439 -0.08056 0.01411 -0.08559 0.02775 C -0.09167 0.0444 -0.08524 0.02197 -0.08958 0.03793 C -0.09392 0.09459 -0.11024 0.16281 -0.08559 0.21092 C -0.08333 0.22086 -0.08142 0.23057 -0.07917 0.24052 C -0.08351 0.24907 -0.08021 0.25879 -0.07778 0.26804 C -0.07813 0.29417 -0.08038 0.33279 -0.08038 0.36332 E">
                                      <p:cBhvr>
                                        <p:cTn id="42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http://www.google.com/maps/vt/data=LtgX-e3f8ctI3U5dJtbt7EJ1ZfRneYme,ueGBm21dZ72Ra6Lix672vDlbdJjP-pjEzKXgR6iX32dlf6X-hr5Wjk27mC-OMHabRxAMjAqt7rZoaQ"/>
          <p:cNvPicPr/>
          <p:nvPr/>
        </p:nvPicPr>
        <p:blipFill>
          <a:blip r:embed="rId1"/>
          <a:stretch/>
        </p:blipFill>
        <p:spPr>
          <a:xfrm>
            <a:off x="-15840" y="685800"/>
            <a:ext cx="9159840" cy="617220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4"/>
          <p:cNvSpPr/>
          <p:nvPr/>
        </p:nvSpPr>
        <p:spPr>
          <a:xfrm>
            <a:off x="76320" y="-326880"/>
            <a:ext cx="799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http://t1.gstatic.com/images?q=tbn:ANd9GcSGVJp4KwZMfwJ6skRpkOzQr5VpeHpYh80h-mLtB-061-JG33k9fi2lwamk"/>
          <p:cNvPicPr/>
          <p:nvPr/>
        </p:nvPicPr>
        <p:blipFill>
          <a:blip r:embed="rId2"/>
          <a:stretch/>
        </p:blipFill>
        <p:spPr>
          <a:xfrm>
            <a:off x="76320" y="-547560"/>
            <a:ext cx="1371600" cy="1152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http://t1.gstatic.com/images?q=tbn:ANd9GcSGVJp4KwZMfwJ6skRpkOzQr5VpeHpYh80h-mLtB-061-JG33k9fi2lwamk"/>
          <p:cNvPicPr/>
          <p:nvPr/>
        </p:nvPicPr>
        <p:blipFill>
          <a:blip r:embed="rId3"/>
          <a:stretch/>
        </p:blipFill>
        <p:spPr>
          <a:xfrm>
            <a:off x="76320" y="-547560"/>
            <a:ext cx="1371600" cy="115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http://t1.gstatic.com/images?q=tbn:ANd9GcSGVJp4KwZMfwJ6skRpkOzQr5VpeHpYh80h-mLtB-061-JG33k9fi2lwamk"/>
          <p:cNvPicPr/>
          <p:nvPr/>
        </p:nvPicPr>
        <p:blipFill>
          <a:blip r:embed="rId4"/>
          <a:stretch/>
        </p:blipFill>
        <p:spPr>
          <a:xfrm>
            <a:off x="76320" y="-547560"/>
            <a:ext cx="1371600" cy="1152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http://www.coloring-pictures.net/drawings/boat/boat.gif"/>
          <p:cNvPicPr/>
          <p:nvPr/>
        </p:nvPicPr>
        <p:blipFill>
          <a:blip r:embed="rId5"/>
          <a:stretch/>
        </p:blipFill>
        <p:spPr>
          <a:xfrm>
            <a:off x="7391520" y="2590920"/>
            <a:ext cx="380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6281E-007 C -0.00851 0.00787 -0.01858 0.01319 -0.02726 0.02082 C -0.02865 0.0266 -0.03108 0.03076 -0.03247 0.03631 C -0.03056 0.05042 -0.03195 0.04348 -0.02848 0.05713 C -0.02743 0.06106 -0.02327 0.06753 -0.02327 0.06753 C -0.02414 0.06985 -0.02431 0.07285 -0.02587 0.07424 C -0.02813 0.07632 -0.03368 0.07771 -0.03368 0.07771 C -0.03907 0.08234 -0.04497 0.0828 -0.05052 0.0865 C -0.05938 0.09251 -0.04983 0.08789 -0.05834 0.09159 C -0.06268 0.09737 -0.06771 0.10454 -0.07275 0.10893 C -0.07587 0.11518 -0.07865 0.12258 -0.08056 0.12975 C -0.08021 0.13807 -0.07552 0.17507 -0.08056 0.18849 C -0.0823 0.19288 -0.09757 0.19913 -0.10122 0.20074 C -0.10382 0.2019 -0.10903 0.20398 -0.10903 0.20398 C -0.11632 0.21138 -0.11233 0.20861 -0.12205 0.21277 C -0.12327 0.21323 -0.12587 0.21439 -0.12587 0.21439 C -0.13073 0.21855 -0.13316 0.22364 -0.13629 0.23012 C -0.13959 0.24654 -0.13872 0.26411 -0.13507 0.2803 C -0.13368 0.29487 -0.12709 0.33904 -0.1415 0.34598 C -0.14809 0.35431 -0.15035 0.35037 -0.15834 0.3476 C -0.1632 0.34135 -0.16476 0.33326 -0.17014 0.32863 C -0.17205 0.32054 -0.17483 0.31198 -0.17917 0.3062 C -0.18282 0.29256 -0.17796 0.30944 -0.18299 0.29579 C -0.1849 0.29048 -0.18455 0.28331 -0.18698 0.27845 C -0.18802 0.27637 -0.18959 0.27521 -0.1908 0.27336 C -0.19184 0.27174 -0.19219 0.26943 -0.19341 0.26804 C -0.19445 0.26689 -0.19618 0.26712 -0.1974 0.26642 C -0.20348 0.26319 -0.20938 0.26064 -0.21546 0.25764 C -0.22796 0.25995 -0.23629 0.26666 -0.24792 0.27151 C -0.25521 0.27799 -0.26337 0.27544 -0.27136 0.27151 C -0.27431 0.26596 -0.27761 0.26249 -0.27917 0.25602 C -0.27796 0.2433 -0.28091 0.24399 -0.27657 0.24399 E">
                                      <p:cBhvr>
                                        <p:cTn id="48" dur="3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1828800" y="274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6" descr="j0237413"/>
          <p:cNvPicPr/>
          <p:nvPr/>
        </p:nvPicPr>
        <p:blipFill>
          <a:blip r:embed="rId1"/>
          <a:stretch/>
        </p:blipFill>
        <p:spPr>
          <a:xfrm>
            <a:off x="1981080" y="1219320"/>
            <a:ext cx="1970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66474E-006 C 0.01962 -0.00348 0.03923 -0.00694 0.04444 0.00832 C 0.04965 0.02358 0.03802 0.086 0.03177 0.09086 C 0.02552 0.09571 0.01146 0.05017 0.00642 0.03791 C 0.00139 0.02566 0.00399 0.00323 0.00156 0.01687 C -0.00087 0.03051 -0.00764 0.10242 -0.00782 0.12045 E">
                                      <p:cBhvr>
                                        <p:cTn id="54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6477120" cy="1905120"/>
          </a:xfrm>
          <a:prstGeom prst="rect">
            <a:avLst/>
          </a:prstGeom>
          <a:ln w="0">
            <a:noFill/>
          </a:ln>
        </p:spPr>
      </p:pic>
      <p:sp>
        <p:nvSpPr>
          <p:cNvPr id="628" name="Flowchart: Connector 4"/>
          <p:cNvSpPr/>
          <p:nvPr/>
        </p:nvSpPr>
        <p:spPr>
          <a:xfrm>
            <a:off x="9144000" y="0"/>
            <a:ext cx="380880" cy="5335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01965 C -0.03073 -0.03352 -0.04757 -0.03237 -0.06041 -0.03884 C -0.08073 -0.03722 -0.0967 -0.03792 -0.11441 -0.02612 C -0.11649 -0.02196 -0.11961 -0.01826 -0.12083 -0.01341 C -0.12187 -0.00924 -0.12395 -0.00069 -0.12395 -0.00046 C -0.12031 0.01411 -0.12395 0.01064 -0.11597 0.01411 C -0.11111 0.01827 -0.10885 0.02243 -0.1033 0.02474 C -0.0967 0.02174 -0.09705 0.01804 -0.09218 0.01203 C -0.0901 0.00648 -0.08698 -0.00023 -0.0875 -0.00693 C -0.08923 -0.03005 -0.11371 -0.02867 -0.12552 -0.03029 C -0.16163 -0.02797 -0.15642 -0.02913 -0.18264 -0.01757 C -0.18698 -0.00161 -0.18698 0.01203 -0.17795 0.02474 C -0.17482 0.03746 -0.16909 0.03792 -0.16041 0.04162 C -0.15885 0.03954 -0.15607 0.03815 -0.15573 0.03515 C -0.15312 0.0155 -0.16059 0.01156 -0.17152 0.00787 C -0.22951 0.01064 -0.19982 0.00578 -0.22882 0.01827 C -0.23385 0.02867 -0.24236 0.03515 -0.24774 0.04578 C -0.24982 0.05434 -0.25208 0.06266 -0.25416 0.07122 C -0.25468 0.0733 -0.25573 0.07746 -0.25573 0.07769 C -0.25694 0.10128 -0.25868 0.1237 -0.26684 0.14521 E">
                                      <p:cBhvr>
                                        <p:cTn id="60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37:56Z</dcterms:created>
  <dc:creator>staycle</dc:creator>
  <dc:description/>
  <dc:language>en-US</dc:language>
  <cp:lastModifiedBy>Mrs. Broussard</cp:lastModifiedBy>
  <dcterms:modified xsi:type="dcterms:W3CDTF">2011-04-06T16:43:51Z</dcterms:modified>
  <cp:revision>64</cp:revision>
  <dc:subject/>
  <dc:title>POWERPOINT TRICKS</dc:title>
</cp:coreProperties>
</file>